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12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13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uación de Seguridad en Instalaciones Radia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14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19A08F-B7BF-42D4-A044-3CCE8DBF8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resultados de las 64 posibles combinaciones de las tres variables, atendiendo a la lógica general de combinación de variables de la metodología, dan como resultado 4 niveles de riesgo que son muy alto, alto, medio y bajo y que se organizan atendiendo a la matriz que se muestra en la presente diaposi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esta manera la aplicación de la metodología implica analizar todos los posibles errores humanos y fallos de equipos que potencialmente pudieran ocurrir (sucesos iniciadores) y evaluar en cada uno de ellos la frecuencia , la probabilidad y las consecuencias y entonces una vez que se han asignado niveles a estas variables independiente es posible entrar con esos valores a la matriz que se presenta en la diapositiva y buscar cual de las 64 combinaciones se corresponde con la evaluación que hemos realizado para las 3 variables independientes (f,p,C) y obtener así el riesgo de la secuencia accidental analiz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figura muestra cómo un determinado error humano o fallo de equipo (suceso iniciador), que ocurre con una frecuencia determinada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puede dar lugar a las consecuencias indesead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istirán en el equipo o en el servicio de radioterapia una serie de defensas, que pueden consistir en una o varias barreras (enclavamientos, alarmas o procedimientos) capaces de detectar el problema e impedir que el suceso iniciador se convierta en un accidente. Sin embargo, cada una de estas barreras puede fallar con una determinada probabilidad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en cuyo caso ocurriría el accidente, que se manifestaría en unas consecuencias determinadas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magnitud que caracteriza finalmente la secuencia accidental es el riesgo (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, que es función de las tres variables independientes, la frecuencia del suceso iniciador, la probabilidad de fallo de las barreras y la gravedad de las consecuenc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3600" y="7700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C0039B-C59B-40BD-A2DA-4AFBE2117D7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1ABBF0-1213-497D-84A2-69FC9AF5C8F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D9DD7-20AD-4D68-91D4-B8E084272A8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742A8-6BEC-40E1-8F12-1F6CA8ED2F3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38B48-7230-4B6C-BFBB-58E9364B10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0E8357-0116-41FE-80B5-74E436A34B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DA2D2-3483-4D58-9D60-3E695B051A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0397B2-A599-49EE-8C1D-E415E3CE91D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7AE69-8D6C-42CB-BE3C-3F2C365F26B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C45C0-D46E-4C7E-BCCC-18B9CFB73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AD8CD-77D1-44B1-81BC-1155BACDA8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C41AD-E5D1-4549-A4C2-0011C76BE0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391A3-C2DF-470F-AD8E-180631EC941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357B5-13A7-4B1F-8928-D8A192F7230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7C65D-7267-4FC1-8B9E-F78F680EEE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28D75-5CDD-4313-A422-3D8DAF7C305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16905-58BE-4D4F-854C-3760460B72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2D0B8-402F-4701-BD7D-C293114CAC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BE0DD-4A0D-4EAA-B6B8-852AF72117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37E19-9E8E-4BD2-AB65-951B3DE7D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2AB09-401A-4A31-8685-1E201B6F50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DC14B-F74A-4D63-B43D-DA9286E164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2EA77-15A3-4E58-8532-BAFC6FEF05B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07FB-3B72-44F4-AFF1-C117300A3B4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26F5-D200-4D09-A2F8-35171BA00E7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48EAC-8599-4982-A6F6-BDA5EF857F8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F4B4-C79C-446D-A563-49B12E57534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4523-546C-4697-B9D7-D1404D4A83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FF8A-93CB-49AF-A377-664A9F17EE0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3B87-EF20-4AEE-A0EB-7D30B35FF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AD267-9287-4A8F-B30E-C237CA063C8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25399-7C52-4589-8EE9-A4699B8602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15902-FB16-480D-B9B7-D1E3496D8B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AA29D9-96D4-4424-B704-512E488CCE0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37AF19-1968-42C5-85A8-5521C7388C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FAB09-4F8E-4E50-9BD6-605C80CF60A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4E19EC-31E9-4FF7-90E0-BB006DE8746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57C0F-D46D-4FB3-A87B-28F2DFA167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8923B-489A-46DA-8E5F-8A16FAB981F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1E0506-2CDB-4EF0-B421-0F479C867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86210-B34C-477E-88BA-0B4CBBA1E8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6BF94-4DCA-4C9F-AA2A-7F479773D7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A1605-2B66-468D-B5F8-773C27F516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00F98-E4C4-4337-A439-A1BD6C30CDD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7EC20-2A11-450B-8F29-BF291F6918C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153E7D-C4A4-4812-9481-9ACFFE83F24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0C43C-A1D0-4BD4-8AE1-12611CF2FF5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2D0FB-4511-4A1D-8725-09DB8BAFE13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9170E6-84F8-4832-BD18-AEF17F6961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DAD272-96E2-4677-9839-75E2D56BF9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7D8140-1E05-4CC5-A213-413AC885DD6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30E7D-C5FD-4DB4-9C14-52ED8FDA191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A85E8-8BCC-46FA-8F84-F6D5553709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42A07-E1D9-4F6F-8BBE-3211FF5BB1E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255BF-7815-4B19-A6E9-631E47D9E2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54431D-C503-434D-B356-C298393DFDC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7B060-3497-48D4-B0D1-9374AF33F2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02C8-61E1-406C-94AE-E4D908199E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3A0D-9BFA-4164-A1AF-79E2797B8C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42AB-AA80-4BA9-979C-9ECFB650DB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9014-FB4C-43B9-99B5-FF121BCF38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1723-C91C-4AB7-BAD3-6CF132AF7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6DB41-4B5A-4B5A-A1DF-67F91F52B1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875E-F22D-4A7E-9F83-507414531C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9176-6C28-48F9-AECE-1DADA80E0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FF1C2-EFE2-4CD8-AFA1-00D8B9BA924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370B-B38C-4A7D-BBE4-6CF76291F9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D0F4-4DAC-4646-B921-70B870F9B0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1D54-E308-4C83-9D45-7FFF660C1C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FA9D-48AA-45A8-BEC0-1369253A79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DE92-221D-409F-BAB1-2FF030D1FA3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3FC8-1113-4CE6-B922-5F6B93448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1512-1DC4-4A2D-B0A9-A4CD24935E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F53DC-8E6F-47DF-845C-2A479893A8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37BD-9FD5-4E98-9BBC-4A7D1FB641A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C155-D94B-47D0-AE9C-EBC9C31117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860BA-EFE6-492B-A287-5D67D06144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58B2-0F62-4995-B5C4-2C4AB59105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AD74-FD16-4DB9-8FA6-300F1EDE28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3848-E9E6-495E-9AE5-C4D3053379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0FAA-837B-4E55-B334-41FD3CABE1C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4308-BB71-42A7-9802-D44FE42E6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C56-5CAC-4110-99E4-0A8E030BD9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C86-0CA5-47EF-AEB3-71F0A4EEC86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7BF-9677-4D63-BFAC-5AC6278AF51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8A2-1C68-4BC4-B0F8-A3B866E9B08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EBE-4719-4636-8FDE-D5162D2FB92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C01A-3C59-4BB1-A805-8AB0C6A1A6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7CC-068C-4CC1-9B3A-50748CDC10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E23-23A9-4FDE-8032-FD96268BC05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08F-EC72-4CF2-ACE5-171A7241DD3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D1A-422C-4220-9689-B54A9F142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F4C-E528-4D49-84F0-D0DA41F90F6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4C22B-F9B2-4A49-AEBD-C037FAF313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0F111-C702-4407-BCE6-80EA04FF1D1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27A8E-CA8F-47AD-9299-FACBD95ED48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5E26F-CC68-4A4A-A314-FFD359626F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73647-31E5-4116-8E22-41D50316AE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BF38F-33E9-43C1-8FCA-E0F3024283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EC25F-7E4A-439F-BD47-A5DF66F0926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E6A64-9963-4A41-B905-AED872BF73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ECD0B-B47A-431E-80C4-CFAEA9689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E4C08-02B5-4181-8D61-1C3CFF9F4B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E8F99-8FA7-4A60-816E-B0F515D4F7A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C4093-EE60-4EEA-B405-083C9DEE8F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96BF6-4333-4CBB-987B-E0660594524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3D5C2-8119-4549-B4F9-1369C5E661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3B26-5E6A-4D14-9497-A302C9C8A0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B6F2-E283-4873-93B9-BEFCA630B3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CE6EE-8F4B-485E-BC9B-91F7BEEB4B3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B65E-5BCF-4731-8620-F48887EE8CA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DC772-7704-4271-B09B-E6444345E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D01B-EA1E-423D-B626-F6F37B61470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BEED-3E26-48F1-AA92-8C434C2360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5D348-5C08-403A-A1CF-2EC9228B5B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593CF-15BE-486F-B775-D552C5D1A3F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CA77E-0E11-4799-92AE-8A9421A89C5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642C-059F-4C08-938A-9EFEF9F70B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B7F-65E2-4F62-9D65-F6E5B6FA506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0563-ACBE-45FE-AECC-B146CF5EDF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6622-8037-44CA-B027-D3C0ADA2A6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3119-E895-42F4-909E-4247AE6D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BB091-74BC-4E99-A7A0-17E29F44903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8363-1AE4-4617-B226-ABB18E82E0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9230-72D0-4C32-A3B4-4426D8E40B0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52BC-7915-4EC1-AF0C-D82601892D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3A92-B657-4F79-B6FD-4D006E1FB98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7C87-7FD3-4552-87E1-94BAC683347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DE9D-D66D-44F1-9F69-9A5919E529F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76042A-3699-4500-86EC-469192DD37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3AD95-6ACA-43D7-9890-FC44DD88002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666B23-C673-4FC4-8A2F-BADF07F64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9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8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732E-C1C6-49D7-8B5A-1F2CA8AB61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3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9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1A4-92B0-4C43-B92F-04D75FF813C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8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0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053-9CE4-4834-A5FD-B89B5D3800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52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733A-79C6-41FA-9634-46C99A90A47E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rcRect l="33219" t="32303" r="34288" b="32623"/>
          <a:stretch/>
        </p:blipFill>
        <p:spPr>
          <a:xfrm>
            <a:off x="3740040" y="404640"/>
            <a:ext cx="1598760" cy="1381320"/>
          </a:xfrm>
          <a:prstGeom prst="rect">
            <a:avLst/>
          </a:prstGeom>
          <a:ln w="31680">
            <a:solidFill>
              <a:srgbClr val="6598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85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4714-2F92-452B-85F8-638BB3BCBC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29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7 CuadroTexto"/>
          <p:cNvSpPr/>
          <p:nvPr/>
        </p:nvSpPr>
        <p:spPr>
          <a:xfrm>
            <a:off x="2340000" y="6434280"/>
            <a:ext cx="51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500" spc="-1" strike="noStrike">
                <a:solidFill>
                  <a:srgbClr val="333399"/>
                </a:solidFill>
                <a:latin typeface="Arial"/>
              </a:rPr>
              <a:t>Evaluación de Seguridad en Instalaciones Radiactiva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2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127A-FA6D-4012-B43F-011EFC0A61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7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1DE9-AE94-43A3-B8A6-D94EA6D9473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1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4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789-3A97-41F6-A776-E10706175DD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CAAD-4AFD-4EA3-B8AC-1FFB38843B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0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6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2C7F-0973-4313-94ED-49DADB1CDC5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50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7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6CC-2947-4556-BE4C-1B8444FAD4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243000" y="2367000"/>
            <a:ext cx="871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L10. Descripción de la Severidad de las Potenciales Consecuencias (II)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50920" y="541800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ganismo Internacional de Energía Atómic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árboles de suces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Grupo 7"/>
          <p:cNvGrpSpPr/>
          <p:nvPr/>
        </p:nvGrpSpPr>
        <p:grpSpPr>
          <a:xfrm>
            <a:off x="250920" y="1569960"/>
            <a:ext cx="8858160" cy="4898880"/>
            <a:chOff x="250920" y="1569960"/>
            <a:chExt cx="8858160" cy="4898880"/>
          </a:xfrm>
        </p:grpSpPr>
        <p:grpSp>
          <p:nvGrpSpPr>
            <p:cNvPr id="678" name="Group 2"/>
            <p:cNvGrpSpPr/>
            <p:nvPr/>
          </p:nvGrpSpPr>
          <p:grpSpPr>
            <a:xfrm>
              <a:off x="4984920" y="5406120"/>
              <a:ext cx="4122720" cy="641520"/>
              <a:chOff x="4984920" y="5406120"/>
              <a:chExt cx="4122720" cy="641520"/>
            </a:xfrm>
          </p:grpSpPr>
          <p:sp>
            <p:nvSpPr>
              <p:cNvPr id="679" name="Text Box 3"/>
              <p:cNvSpPr/>
              <p:nvPr/>
            </p:nvSpPr>
            <p:spPr>
              <a:xfrm>
                <a:off x="6948360" y="5469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Text Box 4"/>
              <p:cNvSpPr/>
              <p:nvPr/>
            </p:nvSpPr>
            <p:spPr>
              <a:xfrm>
                <a:off x="4984920" y="5596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5"/>
              <p:cNvSpPr/>
              <p:nvPr/>
            </p:nvSpPr>
            <p:spPr>
              <a:xfrm flipV="1">
                <a:off x="4984920" y="5613840"/>
                <a:ext cx="0" cy="209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"/>
              <p:cNvSpPr/>
              <p:nvPr/>
            </p:nvSpPr>
            <p:spPr>
              <a:xfrm>
                <a:off x="4984920" y="5613840"/>
                <a:ext cx="180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Text Box 7"/>
              <p:cNvSpPr/>
              <p:nvPr/>
            </p:nvSpPr>
            <p:spPr>
              <a:xfrm>
                <a:off x="7236000" y="5406120"/>
                <a:ext cx="1871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Incidente recuperable afectando 1 solo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8"/>
            <p:cNvGrpSpPr/>
            <p:nvPr/>
          </p:nvGrpSpPr>
          <p:grpSpPr>
            <a:xfrm>
              <a:off x="4017960" y="5244480"/>
              <a:ext cx="936360" cy="581040"/>
              <a:chOff x="4017960" y="5244480"/>
              <a:chExt cx="936360" cy="581040"/>
            </a:xfrm>
          </p:grpSpPr>
          <p:sp>
            <p:nvSpPr>
              <p:cNvPr id="685" name="Text Box 9"/>
              <p:cNvSpPr/>
              <p:nvPr/>
            </p:nvSpPr>
            <p:spPr>
              <a:xfrm>
                <a:off x="4017960" y="5518440"/>
                <a:ext cx="79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0"/>
              <p:cNvSpPr/>
              <p:nvPr/>
            </p:nvSpPr>
            <p:spPr>
              <a:xfrm>
                <a:off x="4017960" y="5244480"/>
                <a:ext cx="0" cy="558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4017960" y="5814000"/>
                <a:ext cx="936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2"/>
            <p:cNvGrpSpPr/>
            <p:nvPr/>
          </p:nvGrpSpPr>
          <p:grpSpPr>
            <a:xfrm>
              <a:off x="4983120" y="4429800"/>
              <a:ext cx="4125960" cy="641520"/>
              <a:chOff x="4983120" y="4429800"/>
              <a:chExt cx="4125960" cy="641520"/>
            </a:xfrm>
          </p:grpSpPr>
          <p:sp>
            <p:nvSpPr>
              <p:cNvPr id="689" name="Text Box 13"/>
              <p:cNvSpPr/>
              <p:nvPr/>
            </p:nvSpPr>
            <p:spPr>
              <a:xfrm>
                <a:off x="4983120" y="46699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4"/>
              <p:cNvSpPr/>
              <p:nvPr/>
            </p:nvSpPr>
            <p:spPr>
              <a:xfrm flipV="1">
                <a:off x="4983120" y="4686840"/>
                <a:ext cx="0" cy="209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Text Box 15"/>
              <p:cNvSpPr/>
              <p:nvPr/>
            </p:nvSpPr>
            <p:spPr>
              <a:xfrm>
                <a:off x="6948360" y="45205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Text Box 16"/>
              <p:cNvSpPr/>
              <p:nvPr/>
            </p:nvSpPr>
            <p:spPr>
              <a:xfrm>
                <a:off x="7237440" y="4429800"/>
                <a:ext cx="1871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Incidente recuperable afectando 1 solo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4983120" y="4687200"/>
                <a:ext cx="180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4" name="Rectangle 19"/>
            <p:cNvSpPr/>
            <p:nvPr/>
          </p:nvSpPr>
          <p:spPr>
            <a:xfrm>
              <a:off x="1042920" y="1569960"/>
              <a:ext cx="777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I: </a:t>
              </a:r>
              <a:r>
                <a:rPr b="1" lang="es-ES" sz="1800" spc="-1" strike="noStrike">
                  <a:solidFill>
                    <a:srgbClr val="990099"/>
                  </a:solidFill>
                  <a:latin typeface="Arial"/>
                </a:rPr>
                <a:t>Realización de TAC de simulación con parámetros geométricos erróneos debido a un error human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5" name="Group 20"/>
            <p:cNvGrpSpPr/>
            <p:nvPr/>
          </p:nvGrpSpPr>
          <p:grpSpPr>
            <a:xfrm>
              <a:off x="6811920" y="2520000"/>
              <a:ext cx="411120" cy="1186920"/>
              <a:chOff x="6811920" y="2520000"/>
              <a:chExt cx="411120" cy="1186920"/>
            </a:xfrm>
          </p:grpSpPr>
          <p:sp>
            <p:nvSpPr>
              <p:cNvPr id="696" name="Text Box 21"/>
              <p:cNvSpPr/>
              <p:nvPr/>
            </p:nvSpPr>
            <p:spPr>
              <a:xfrm>
                <a:off x="6864120" y="2590560"/>
                <a:ext cx="3585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000000"/>
                    </a:solidFill>
                    <a:latin typeface="Arial"/>
                  </a:rPr>
                  <a:t># SEC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Rectangle 22"/>
              <p:cNvSpPr/>
              <p:nvPr/>
            </p:nvSpPr>
            <p:spPr>
              <a:xfrm>
                <a:off x="6864120" y="2590560"/>
                <a:ext cx="358560" cy="111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Rectangle 23"/>
              <p:cNvSpPr/>
              <p:nvPr/>
            </p:nvSpPr>
            <p:spPr>
              <a:xfrm>
                <a:off x="6811920" y="2520000"/>
                <a:ext cx="411120" cy="1117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9" name="Group 24"/>
            <p:cNvGrpSpPr/>
            <p:nvPr/>
          </p:nvGrpSpPr>
          <p:grpSpPr>
            <a:xfrm>
              <a:off x="1847880" y="2520000"/>
              <a:ext cx="1120680" cy="1117800"/>
              <a:chOff x="1847880" y="2520000"/>
              <a:chExt cx="1120680" cy="1117800"/>
            </a:xfrm>
          </p:grpSpPr>
          <p:sp>
            <p:nvSpPr>
              <p:cNvPr id="700" name="Text Box 25"/>
              <p:cNvSpPr/>
              <p:nvPr/>
            </p:nvSpPr>
            <p:spPr>
              <a:xfrm>
                <a:off x="1847880" y="259056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2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Text Box 26"/>
              <p:cNvSpPr/>
              <p:nvPr/>
            </p:nvSpPr>
            <p:spPr>
              <a:xfrm>
                <a:off x="1889280" y="289872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forma-ción PTV en PTD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Rectangle 27"/>
              <p:cNvSpPr/>
              <p:nvPr/>
            </p:nvSpPr>
            <p:spPr>
              <a:xfrm>
                <a:off x="1897200" y="252000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>
                <a:off x="1908000" y="286920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Group 29"/>
            <p:cNvGrpSpPr/>
            <p:nvPr/>
          </p:nvGrpSpPr>
          <p:grpSpPr>
            <a:xfrm>
              <a:off x="823680" y="2520000"/>
              <a:ext cx="1116000" cy="1539720"/>
              <a:chOff x="823680" y="2520000"/>
              <a:chExt cx="1116000" cy="1539720"/>
            </a:xfrm>
          </p:grpSpPr>
          <p:sp>
            <p:nvSpPr>
              <p:cNvPr id="705" name="Text Box 30"/>
              <p:cNvSpPr/>
              <p:nvPr/>
            </p:nvSpPr>
            <p:spPr>
              <a:xfrm>
                <a:off x="823680" y="2590560"/>
                <a:ext cx="107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1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Text Box 31"/>
              <p:cNvSpPr/>
              <p:nvPr/>
            </p:nvSpPr>
            <p:spPr>
              <a:xfrm>
                <a:off x="871200" y="2900160"/>
                <a:ext cx="106848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Delinea-ción de       volumene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Rectangle 32"/>
              <p:cNvSpPr/>
              <p:nvPr/>
            </p:nvSpPr>
            <p:spPr>
              <a:xfrm>
                <a:off x="888480" y="252000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33"/>
              <p:cNvSpPr/>
              <p:nvPr/>
            </p:nvSpPr>
            <p:spPr>
              <a:xfrm>
                <a:off x="899640" y="286920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34"/>
            <p:cNvGrpSpPr/>
            <p:nvPr/>
          </p:nvGrpSpPr>
          <p:grpSpPr>
            <a:xfrm>
              <a:off x="250920" y="2520000"/>
              <a:ext cx="637920" cy="1316160"/>
              <a:chOff x="250920" y="2520000"/>
              <a:chExt cx="637920" cy="1316160"/>
            </a:xfrm>
          </p:grpSpPr>
          <p:sp>
            <p:nvSpPr>
              <p:cNvPr id="710" name="Text Box 35"/>
              <p:cNvSpPr/>
              <p:nvPr/>
            </p:nvSpPr>
            <p:spPr>
              <a:xfrm>
                <a:off x="252360" y="2590560"/>
                <a:ext cx="577800" cy="124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30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Rectangle 36"/>
              <p:cNvSpPr/>
              <p:nvPr/>
            </p:nvSpPr>
            <p:spPr>
              <a:xfrm>
                <a:off x="250920" y="2520000"/>
                <a:ext cx="63792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2" name="Group 37"/>
            <p:cNvGrpSpPr/>
            <p:nvPr/>
          </p:nvGrpSpPr>
          <p:grpSpPr>
            <a:xfrm>
              <a:off x="7231320" y="2520000"/>
              <a:ext cx="1763640" cy="1117800"/>
              <a:chOff x="7231320" y="2520000"/>
              <a:chExt cx="1763640" cy="1117800"/>
            </a:xfrm>
          </p:grpSpPr>
          <p:sp>
            <p:nvSpPr>
              <p:cNvPr id="713" name="Text Box 38"/>
              <p:cNvSpPr/>
              <p:nvPr/>
            </p:nvSpPr>
            <p:spPr>
              <a:xfrm>
                <a:off x="7231320" y="2590560"/>
                <a:ext cx="17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Rectangle 39"/>
              <p:cNvSpPr/>
              <p:nvPr/>
            </p:nvSpPr>
            <p:spPr>
              <a:xfrm>
                <a:off x="7232760" y="2520000"/>
                <a:ext cx="164772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5" name="Group 40"/>
            <p:cNvGrpSpPr/>
            <p:nvPr/>
          </p:nvGrpSpPr>
          <p:grpSpPr>
            <a:xfrm>
              <a:off x="1908000" y="4475520"/>
              <a:ext cx="1008000" cy="361440"/>
              <a:chOff x="1908000" y="4475520"/>
              <a:chExt cx="1008000" cy="361440"/>
            </a:xfrm>
          </p:grpSpPr>
          <p:sp>
            <p:nvSpPr>
              <p:cNvPr id="716" name="Text Box 41"/>
              <p:cNvSpPr/>
              <p:nvPr/>
            </p:nvSpPr>
            <p:spPr>
              <a:xfrm>
                <a:off x="1908000" y="452988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42"/>
              <p:cNvSpPr/>
              <p:nvPr/>
            </p:nvSpPr>
            <p:spPr>
              <a:xfrm flipH="1">
                <a:off x="1908000" y="48254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43"/>
              <p:cNvSpPr/>
              <p:nvPr/>
            </p:nvSpPr>
            <p:spPr>
              <a:xfrm flipV="1">
                <a:off x="1928520" y="4475520"/>
                <a:ext cx="0" cy="34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9" name="Line 44"/>
            <p:cNvSpPr/>
            <p:nvPr/>
          </p:nvSpPr>
          <p:spPr>
            <a:xfrm flipH="1">
              <a:off x="323640" y="4128120"/>
              <a:ext cx="57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0" name="Group 45"/>
            <p:cNvGrpSpPr/>
            <p:nvPr/>
          </p:nvGrpSpPr>
          <p:grpSpPr>
            <a:xfrm>
              <a:off x="900000" y="4117320"/>
              <a:ext cx="1008000" cy="389880"/>
              <a:chOff x="900000" y="4117320"/>
              <a:chExt cx="1008000" cy="389880"/>
            </a:xfrm>
          </p:grpSpPr>
          <p:sp>
            <p:nvSpPr>
              <p:cNvPr id="721" name="Text Box 46"/>
              <p:cNvSpPr/>
              <p:nvPr/>
            </p:nvSpPr>
            <p:spPr>
              <a:xfrm>
                <a:off x="909720" y="42001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47"/>
              <p:cNvSpPr/>
              <p:nvPr/>
            </p:nvSpPr>
            <p:spPr>
              <a:xfrm flipH="1">
                <a:off x="900000" y="447588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48"/>
              <p:cNvSpPr/>
              <p:nvPr/>
            </p:nvSpPr>
            <p:spPr>
              <a:xfrm flipV="1">
                <a:off x="900000" y="4117320"/>
                <a:ext cx="0" cy="358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" name="Group 49"/>
            <p:cNvGrpSpPr/>
            <p:nvPr/>
          </p:nvGrpSpPr>
          <p:grpSpPr>
            <a:xfrm>
              <a:off x="900000" y="3678120"/>
              <a:ext cx="8209080" cy="487080"/>
              <a:chOff x="900000" y="3678120"/>
              <a:chExt cx="8209080" cy="487080"/>
            </a:xfrm>
          </p:grpSpPr>
          <p:sp>
            <p:nvSpPr>
              <p:cNvPr id="725" name="Text Box 50"/>
              <p:cNvSpPr/>
              <p:nvPr/>
            </p:nvSpPr>
            <p:spPr>
              <a:xfrm>
                <a:off x="900000" y="385812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51"/>
              <p:cNvSpPr/>
              <p:nvPr/>
            </p:nvSpPr>
            <p:spPr>
              <a:xfrm>
                <a:off x="900000" y="3847320"/>
                <a:ext cx="590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52"/>
              <p:cNvSpPr/>
              <p:nvPr/>
            </p:nvSpPr>
            <p:spPr>
              <a:xfrm flipV="1">
                <a:off x="900000" y="3847320"/>
                <a:ext cx="0" cy="28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Text Box 53"/>
              <p:cNvSpPr/>
              <p:nvPr/>
            </p:nvSpPr>
            <p:spPr>
              <a:xfrm>
                <a:off x="6948360" y="3678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Text Box 54"/>
              <p:cNvSpPr/>
              <p:nvPr/>
            </p:nvSpPr>
            <p:spPr>
              <a:xfrm>
                <a:off x="7237440" y="3707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55"/>
            <p:cNvGrpSpPr/>
            <p:nvPr/>
          </p:nvGrpSpPr>
          <p:grpSpPr>
            <a:xfrm>
              <a:off x="1908000" y="3938400"/>
              <a:ext cx="7201080" cy="538560"/>
              <a:chOff x="1908000" y="3938400"/>
              <a:chExt cx="7201080" cy="538560"/>
            </a:xfrm>
          </p:grpSpPr>
          <p:sp>
            <p:nvSpPr>
              <p:cNvPr id="731" name="Text Box 56"/>
              <p:cNvSpPr/>
              <p:nvPr/>
            </p:nvSpPr>
            <p:spPr>
              <a:xfrm>
                <a:off x="1908000" y="41277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57"/>
              <p:cNvSpPr/>
              <p:nvPr/>
            </p:nvSpPr>
            <p:spPr>
              <a:xfrm>
                <a:off x="1908000" y="4127760"/>
                <a:ext cx="489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58"/>
              <p:cNvSpPr/>
              <p:nvPr/>
            </p:nvSpPr>
            <p:spPr>
              <a:xfrm flipV="1">
                <a:off x="1928880" y="4127760"/>
                <a:ext cx="0" cy="349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Text Box 59"/>
              <p:cNvSpPr/>
              <p:nvPr/>
            </p:nvSpPr>
            <p:spPr>
              <a:xfrm>
                <a:off x="6948360" y="393840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Text Box 60"/>
              <p:cNvSpPr/>
              <p:nvPr/>
            </p:nvSpPr>
            <p:spPr>
              <a:xfrm>
                <a:off x="7237440" y="396756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61"/>
            <p:cNvGrpSpPr/>
            <p:nvPr/>
          </p:nvGrpSpPr>
          <p:grpSpPr>
            <a:xfrm>
              <a:off x="2916360" y="4191120"/>
              <a:ext cx="6192720" cy="633960"/>
              <a:chOff x="2916360" y="4191120"/>
              <a:chExt cx="6192720" cy="633960"/>
            </a:xfrm>
          </p:grpSpPr>
          <p:sp>
            <p:nvSpPr>
              <p:cNvPr id="737" name="Text Box 62"/>
              <p:cNvSpPr/>
              <p:nvPr/>
            </p:nvSpPr>
            <p:spPr>
              <a:xfrm>
                <a:off x="2916360" y="43974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3"/>
              <p:cNvSpPr/>
              <p:nvPr/>
            </p:nvSpPr>
            <p:spPr>
              <a:xfrm>
                <a:off x="2916360" y="4406760"/>
                <a:ext cx="38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4"/>
              <p:cNvSpPr/>
              <p:nvPr/>
            </p:nvSpPr>
            <p:spPr>
              <a:xfrm flipV="1">
                <a:off x="2916360" y="4406760"/>
                <a:ext cx="0" cy="41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Text Box 65"/>
              <p:cNvSpPr/>
              <p:nvPr/>
            </p:nvSpPr>
            <p:spPr>
              <a:xfrm>
                <a:off x="6948360" y="419112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Text Box 66"/>
              <p:cNvSpPr/>
              <p:nvPr/>
            </p:nvSpPr>
            <p:spPr>
              <a:xfrm>
                <a:off x="7237440" y="4220280"/>
                <a:ext cx="187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Sin Consecuencias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67"/>
            <p:cNvGrpSpPr/>
            <p:nvPr/>
          </p:nvGrpSpPr>
          <p:grpSpPr>
            <a:xfrm>
              <a:off x="2874960" y="2521440"/>
              <a:ext cx="1120680" cy="1117800"/>
              <a:chOff x="2874960" y="2521440"/>
              <a:chExt cx="1120680" cy="1117800"/>
            </a:xfrm>
          </p:grpSpPr>
          <p:sp>
            <p:nvSpPr>
              <p:cNvPr id="743" name="Text Box 68"/>
              <p:cNvSpPr/>
              <p:nvPr/>
            </p:nvSpPr>
            <p:spPr>
              <a:xfrm>
                <a:off x="2874960" y="259200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3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Text Box 69"/>
              <p:cNvSpPr/>
              <p:nvPr/>
            </p:nvSpPr>
            <p:spPr>
              <a:xfrm>
                <a:off x="2916360" y="290016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Imagen Portal en IT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70"/>
              <p:cNvSpPr/>
              <p:nvPr/>
            </p:nvSpPr>
            <p:spPr>
              <a:xfrm>
                <a:off x="2924280" y="252144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71"/>
              <p:cNvSpPr/>
              <p:nvPr/>
            </p:nvSpPr>
            <p:spPr>
              <a:xfrm>
                <a:off x="2935080" y="287064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" name="Group 72"/>
            <p:cNvGrpSpPr/>
            <p:nvPr/>
          </p:nvGrpSpPr>
          <p:grpSpPr>
            <a:xfrm>
              <a:off x="3903840" y="2521440"/>
              <a:ext cx="1120680" cy="1117800"/>
              <a:chOff x="3903840" y="2521440"/>
              <a:chExt cx="1120680" cy="1117800"/>
            </a:xfrm>
          </p:grpSpPr>
          <p:sp>
            <p:nvSpPr>
              <p:cNvPr id="748" name="Text Box 73"/>
              <p:cNvSpPr/>
              <p:nvPr/>
            </p:nvSpPr>
            <p:spPr>
              <a:xfrm>
                <a:off x="3903840" y="2592000"/>
                <a:ext cx="107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Barrera 4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Text Box 74"/>
              <p:cNvSpPr/>
              <p:nvPr/>
            </p:nvSpPr>
            <p:spPr>
              <a:xfrm>
                <a:off x="3945240" y="2900160"/>
                <a:ext cx="1079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Imagen Portal periódica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75"/>
              <p:cNvSpPr/>
              <p:nvPr/>
            </p:nvSpPr>
            <p:spPr>
              <a:xfrm>
                <a:off x="3953160" y="2521440"/>
                <a:ext cx="1019160" cy="1117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76"/>
              <p:cNvSpPr/>
              <p:nvPr/>
            </p:nvSpPr>
            <p:spPr>
              <a:xfrm>
                <a:off x="3963960" y="2870640"/>
                <a:ext cx="10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77"/>
            <p:cNvGrpSpPr/>
            <p:nvPr/>
          </p:nvGrpSpPr>
          <p:grpSpPr>
            <a:xfrm>
              <a:off x="4838760" y="2520000"/>
              <a:ext cx="2109240" cy="1117800"/>
              <a:chOff x="4838760" y="2520000"/>
              <a:chExt cx="2109240" cy="1117800"/>
            </a:xfrm>
          </p:grpSpPr>
          <p:grpSp>
            <p:nvGrpSpPr>
              <p:cNvPr id="753" name="Group 78"/>
              <p:cNvGrpSpPr/>
              <p:nvPr/>
            </p:nvGrpSpPr>
            <p:grpSpPr>
              <a:xfrm>
                <a:off x="4838760" y="2520000"/>
                <a:ext cx="2109240" cy="1117800"/>
                <a:chOff x="4838760" y="2520000"/>
                <a:chExt cx="2109240" cy="1117800"/>
              </a:xfrm>
            </p:grpSpPr>
            <p:sp>
              <p:nvSpPr>
                <p:cNvPr id="754" name="Text Box 79"/>
                <p:cNvSpPr/>
                <p:nvPr/>
              </p:nvSpPr>
              <p:spPr>
                <a:xfrm>
                  <a:off x="4838760" y="2590560"/>
                  <a:ext cx="2091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Barrera 4</a:t>
                  </a: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Text Box 80"/>
                <p:cNvSpPr/>
                <p:nvPr/>
              </p:nvSpPr>
              <p:spPr>
                <a:xfrm>
                  <a:off x="4856400" y="2901600"/>
                  <a:ext cx="2091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400" spc="-1" strike="noStrike">
                      <a:solidFill>
                        <a:srgbClr val="000000"/>
                      </a:solidFill>
                      <a:latin typeface="Arial"/>
                    </a:rPr>
                    <a:t>Revisión Médica del Paciente  </a:t>
                  </a:r>
                  <a:endParaRPr b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Rectangle 81"/>
                <p:cNvSpPr/>
                <p:nvPr/>
              </p:nvSpPr>
              <p:spPr>
                <a:xfrm>
                  <a:off x="4968720" y="2520000"/>
                  <a:ext cx="1849680" cy="1117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Line 82"/>
              <p:cNvSpPr/>
              <p:nvPr/>
            </p:nvSpPr>
            <p:spPr>
              <a:xfrm>
                <a:off x="4952880" y="2860200"/>
                <a:ext cx="183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83"/>
            <p:cNvGrpSpPr/>
            <p:nvPr/>
          </p:nvGrpSpPr>
          <p:grpSpPr>
            <a:xfrm>
              <a:off x="2916360" y="4835880"/>
              <a:ext cx="1079280" cy="419760"/>
              <a:chOff x="2916360" y="4835880"/>
              <a:chExt cx="1079280" cy="419760"/>
            </a:xfrm>
          </p:grpSpPr>
          <p:sp>
            <p:nvSpPr>
              <p:cNvPr id="759" name="Text Box 84"/>
              <p:cNvSpPr/>
              <p:nvPr/>
            </p:nvSpPr>
            <p:spPr>
              <a:xfrm>
                <a:off x="2916360" y="494856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85"/>
              <p:cNvSpPr/>
              <p:nvPr/>
            </p:nvSpPr>
            <p:spPr>
              <a:xfrm flipV="1">
                <a:off x="2916360" y="4835880"/>
                <a:ext cx="0" cy="41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86"/>
              <p:cNvSpPr/>
              <p:nvPr/>
            </p:nvSpPr>
            <p:spPr>
              <a:xfrm>
                <a:off x="2916360" y="5236200"/>
                <a:ext cx="1079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" name="Group 87"/>
            <p:cNvGrpSpPr/>
            <p:nvPr/>
          </p:nvGrpSpPr>
          <p:grpSpPr>
            <a:xfrm>
              <a:off x="4006800" y="4896360"/>
              <a:ext cx="946080" cy="347760"/>
              <a:chOff x="4006800" y="4896360"/>
              <a:chExt cx="946080" cy="347760"/>
            </a:xfrm>
          </p:grpSpPr>
          <p:sp>
            <p:nvSpPr>
              <p:cNvPr id="763" name="Text Box 88"/>
              <p:cNvSpPr/>
              <p:nvPr/>
            </p:nvSpPr>
            <p:spPr>
              <a:xfrm>
                <a:off x="4006800" y="4896360"/>
                <a:ext cx="79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Éxito 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89"/>
              <p:cNvSpPr/>
              <p:nvPr/>
            </p:nvSpPr>
            <p:spPr>
              <a:xfrm flipV="1">
                <a:off x="4017960" y="4896360"/>
                <a:ext cx="0" cy="347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90"/>
              <p:cNvSpPr/>
              <p:nvPr/>
            </p:nvSpPr>
            <p:spPr>
              <a:xfrm>
                <a:off x="4016520" y="4896360"/>
                <a:ext cx="936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" name="Group 91"/>
            <p:cNvGrpSpPr/>
            <p:nvPr/>
          </p:nvGrpSpPr>
          <p:grpSpPr>
            <a:xfrm>
              <a:off x="4983120" y="4896360"/>
              <a:ext cx="4125960" cy="586800"/>
              <a:chOff x="4983120" y="4896360"/>
              <a:chExt cx="4125960" cy="586800"/>
            </a:xfrm>
          </p:grpSpPr>
          <p:sp>
            <p:nvSpPr>
              <p:cNvPr id="767" name="Text Box 92"/>
              <p:cNvSpPr/>
              <p:nvPr/>
            </p:nvSpPr>
            <p:spPr>
              <a:xfrm>
                <a:off x="4992840" y="48992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93"/>
              <p:cNvSpPr/>
              <p:nvPr/>
            </p:nvSpPr>
            <p:spPr>
              <a:xfrm>
                <a:off x="4983120" y="4896360"/>
                <a:ext cx="0" cy="27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Text Box 94"/>
              <p:cNvSpPr/>
              <p:nvPr/>
            </p:nvSpPr>
            <p:spPr>
              <a:xfrm>
                <a:off x="6948360" y="501480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Text Box 95"/>
              <p:cNvSpPr/>
              <p:nvPr/>
            </p:nvSpPr>
            <p:spPr>
              <a:xfrm>
                <a:off x="7237440" y="5024160"/>
                <a:ext cx="1871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Exposición Accidental de 1 solo 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>
                <a:off x="4983120" y="5176440"/>
                <a:ext cx="180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4984920" y="5823720"/>
              <a:ext cx="4124160" cy="645120"/>
              <a:chOff x="4984920" y="5823720"/>
              <a:chExt cx="4124160" cy="645120"/>
            </a:xfrm>
          </p:grpSpPr>
          <p:sp>
            <p:nvSpPr>
              <p:cNvPr id="773" name="Text Box 98"/>
              <p:cNvSpPr/>
              <p:nvPr/>
            </p:nvSpPr>
            <p:spPr>
              <a:xfrm>
                <a:off x="6948360" y="6020280"/>
                <a:ext cx="287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Text Box 99"/>
              <p:cNvSpPr/>
              <p:nvPr/>
            </p:nvSpPr>
            <p:spPr>
              <a:xfrm>
                <a:off x="7237440" y="6009840"/>
                <a:ext cx="1871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ff0000"/>
                    </a:solidFill>
                    <a:latin typeface="Arial"/>
                  </a:rPr>
                  <a:t>Exposición Accidental de 1 solo  paciente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Text Box 100"/>
              <p:cNvSpPr/>
              <p:nvPr/>
            </p:nvSpPr>
            <p:spPr>
              <a:xfrm>
                <a:off x="4994280" y="582480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Fallo</a:t>
                </a:r>
                <a:endParaRPr b="1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101"/>
              <p:cNvSpPr/>
              <p:nvPr/>
            </p:nvSpPr>
            <p:spPr>
              <a:xfrm>
                <a:off x="4984920" y="5823720"/>
                <a:ext cx="0" cy="27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102"/>
              <p:cNvSpPr/>
              <p:nvPr/>
            </p:nvSpPr>
            <p:spPr>
              <a:xfrm>
                <a:off x="4984920" y="6103800"/>
                <a:ext cx="180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Matriz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9" name="Picture 218" descr=""/>
          <p:cNvPicPr/>
          <p:nvPr/>
        </p:nvPicPr>
        <p:blipFill>
          <a:blip r:embed="rId1"/>
          <a:srcRect l="19193" t="28543" r="28052" b="26083"/>
          <a:stretch/>
        </p:blipFill>
        <p:spPr>
          <a:xfrm>
            <a:off x="539640" y="1738440"/>
            <a:ext cx="7845480" cy="47149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55520" y="981000"/>
            <a:ext cx="7429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jemplo: Método de Matriz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Grupo 21"/>
          <p:cNvGrpSpPr/>
          <p:nvPr/>
        </p:nvGrpSpPr>
        <p:grpSpPr>
          <a:xfrm>
            <a:off x="539640" y="1557360"/>
            <a:ext cx="8209080" cy="4897440"/>
            <a:chOff x="539640" y="1557360"/>
            <a:chExt cx="8209080" cy="4897440"/>
          </a:xfrm>
        </p:grpSpPr>
        <p:sp>
          <p:nvSpPr>
            <p:cNvPr id="784" name="Text Box 4"/>
            <p:cNvSpPr/>
            <p:nvPr/>
          </p:nvSpPr>
          <p:spPr>
            <a:xfrm>
              <a:off x="1680480" y="1557360"/>
              <a:ext cx="64969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1: Determinación del listado de Sucesos Iniciadores (SI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7"/>
            <p:cNvSpPr/>
            <p:nvPr/>
          </p:nvSpPr>
          <p:spPr>
            <a:xfrm>
              <a:off x="1539720" y="2855880"/>
              <a:ext cx="6567840" cy="58068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2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Estimación de la frecuencia d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Clasificación según los niveles establecidos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Text Box 8"/>
            <p:cNvSpPr/>
            <p:nvPr/>
          </p:nvSpPr>
          <p:spPr>
            <a:xfrm>
              <a:off x="2681640" y="2236680"/>
              <a:ext cx="4069800" cy="337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Se analiza un Suceso Iniciador (SI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Text Box 9"/>
            <p:cNvSpPr/>
            <p:nvPr/>
          </p:nvSpPr>
          <p:spPr>
            <a:xfrm>
              <a:off x="1609560" y="3800520"/>
              <a:ext cx="6498000" cy="58068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3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Evaluación de las consecuencias d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Clasificación según los niveles establecidos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10"/>
            <p:cNvSpPr/>
            <p:nvPr/>
          </p:nvSpPr>
          <p:spPr>
            <a:xfrm>
              <a:off x="1395000" y="4684680"/>
              <a:ext cx="7353720" cy="82404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85760" indent="-1085760"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4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Análisis de las defensas existentes para el SI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. Diferenciar Barreras, reductores de frecuencia y reductores de consecuencias. Clasificación según los niveles establecido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Text Box 11"/>
            <p:cNvSpPr/>
            <p:nvPr/>
          </p:nvSpPr>
          <p:spPr>
            <a:xfrm>
              <a:off x="1539720" y="5774040"/>
              <a:ext cx="6924960" cy="337320"/>
            </a:xfrm>
            <a:prstGeom prst="rect">
              <a:avLst/>
            </a:prstGeom>
            <a:solidFill>
              <a:srgbClr val="d8f1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12880" indent="-8128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Paso 5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s-MX" sz="1600" spc="-1" strike="noStrike">
                  <a:solidFill>
                    <a:srgbClr val="000000"/>
                  </a:solidFill>
                  <a:latin typeface="Arial"/>
                </a:rPr>
                <a:t>Obtención del Riesgo resultante directamente de la matriz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Line 12"/>
            <p:cNvSpPr/>
            <p:nvPr/>
          </p:nvSpPr>
          <p:spPr>
            <a:xfrm>
              <a:off x="4751280" y="189612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13"/>
            <p:cNvSpPr/>
            <p:nvPr/>
          </p:nvSpPr>
          <p:spPr>
            <a:xfrm>
              <a:off x="4751280" y="257688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14"/>
            <p:cNvSpPr/>
            <p:nvPr/>
          </p:nvSpPr>
          <p:spPr>
            <a:xfrm>
              <a:off x="4751280" y="3392640"/>
              <a:ext cx="0" cy="33876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15"/>
            <p:cNvSpPr/>
            <p:nvPr/>
          </p:nvSpPr>
          <p:spPr>
            <a:xfrm>
              <a:off x="4751280" y="434484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16"/>
            <p:cNvSpPr/>
            <p:nvPr/>
          </p:nvSpPr>
          <p:spPr>
            <a:xfrm>
              <a:off x="4822200" y="543384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17"/>
            <p:cNvSpPr/>
            <p:nvPr/>
          </p:nvSpPr>
          <p:spPr>
            <a:xfrm>
              <a:off x="4822200" y="6114600"/>
              <a:ext cx="0" cy="3402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18"/>
            <p:cNvSpPr/>
            <p:nvPr/>
          </p:nvSpPr>
          <p:spPr>
            <a:xfrm flipH="1" flipV="1">
              <a:off x="682200" y="6386040"/>
              <a:ext cx="4068360" cy="14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19"/>
            <p:cNvSpPr/>
            <p:nvPr/>
          </p:nvSpPr>
          <p:spPr>
            <a:xfrm flipV="1">
              <a:off x="711000" y="5433840"/>
              <a:ext cx="0" cy="9266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Text Box 20"/>
            <p:cNvSpPr/>
            <p:nvPr/>
          </p:nvSpPr>
          <p:spPr>
            <a:xfrm rot="10800000">
              <a:off x="539640" y="3041640"/>
              <a:ext cx="423720" cy="2379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3300"/>
                  </a:solidFill>
                  <a:latin typeface="Arial"/>
                </a:rPr>
                <a:t>Analizar el siguiente SI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21"/>
            <p:cNvSpPr/>
            <p:nvPr/>
          </p:nvSpPr>
          <p:spPr>
            <a:xfrm flipV="1">
              <a:off x="681120" y="2644200"/>
              <a:ext cx="0" cy="40788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22"/>
            <p:cNvSpPr/>
            <p:nvPr/>
          </p:nvSpPr>
          <p:spPr>
            <a:xfrm>
              <a:off x="680400" y="2644560"/>
              <a:ext cx="4068360" cy="144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4"/>
          <p:cNvSpPr/>
          <p:nvPr/>
        </p:nvSpPr>
        <p:spPr>
          <a:xfrm>
            <a:off x="108000" y="2006640"/>
            <a:ext cx="8896320" cy="4259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l método RPN clasifica cada modo de falla o desviación de acuerdo con las siguientes variables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veridad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S)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 cada efecto o consecuencia se le asigna un valor numérico de severidad de consecuencia de 1 a 10. Asignando de 1 a 3 cuando no hay peligro o es menor, de 4 a 6 cuando el peligro es moderado, de 7 a 8 cuando el peligro es alto o significativo y de 9 a 10 cuando el peligro es muy alto o peligroso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urrencia o Frecuencia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(O)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onde se establece la frecuencia de la causa de la falla o desviación, de acuerdo con una escala de 1 a 10. Asignando un número menor a 4 cuando la frecuencia es baja, entre 5 y 8 cuando la frecuencia es moderada y de 9 a 10 cuando la frecuencia es alta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tección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(D)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representa la probabilidad de que el problema se pueda detectar antes de que se manifiesten las consecuencias, según una escala del 1 al 10. Asignando 1 cuando es muy improbable y 10 cuando no hay medios suficientes para detectar y prevenir las consecuencia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108000" y="1046160"/>
            <a:ext cx="74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jemplo: Método RP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17"/>
          <p:cNvSpPr/>
          <p:nvPr/>
        </p:nvSpPr>
        <p:spPr>
          <a:xfrm>
            <a:off x="5580000" y="1316160"/>
            <a:ext cx="3178080" cy="6620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PN = 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45760" y="2565360"/>
            <a:ext cx="6397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Gestión de Riesgo – Toma de decision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87480" y="1643040"/>
            <a:ext cx="894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La gestión de riesgos, además de identificar y evaluar riesgos, implica también la toma de decisiones sobre cómo debemos actuar contra los riesgos evaluado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AutoShape 2"/>
          <p:cNvSpPr/>
          <p:nvPr/>
        </p:nvSpPr>
        <p:spPr>
          <a:xfrm flipV="1">
            <a:off x="609480" y="2377080"/>
            <a:ext cx="2772000" cy="373356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3"/>
          <p:cNvSpPr/>
          <p:nvPr/>
        </p:nvSpPr>
        <p:spPr>
          <a:xfrm>
            <a:off x="30240" y="3360600"/>
            <a:ext cx="89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611280" y="606276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Comic Sans MS"/>
              </a:rPr>
              <a:t>Región Ampliamente Aceptada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058760" y="3538440"/>
            <a:ext cx="18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Comic Sans MS"/>
              </a:rPr>
              <a:t>Región Toler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928800" y="2511360"/>
            <a:ext cx="2119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e1c04"/>
                </a:solidFill>
                <a:latin typeface="Comic Sans MS"/>
              </a:rPr>
              <a:t>Región Inaceptab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Line 7"/>
          <p:cNvSpPr/>
          <p:nvPr/>
        </p:nvSpPr>
        <p:spPr>
          <a:xfrm>
            <a:off x="30240" y="5465880"/>
            <a:ext cx="89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3635280" y="176364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esgo     Trabajador       Público        Pacient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3408480" y="2052720"/>
            <a:ext cx="57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iveles       (1/año)             (1/año)       (1/pacient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941640" y="2513160"/>
            <a:ext cx="551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1"/>
          <p:cNvSpPr/>
          <p:nvPr/>
        </p:nvSpPr>
        <p:spPr>
          <a:xfrm>
            <a:off x="4004280" y="401940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9933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2"/>
          <p:cNvSpPr/>
          <p:nvPr/>
        </p:nvSpPr>
        <p:spPr>
          <a:xfrm>
            <a:off x="4044600" y="5695920"/>
            <a:ext cx="55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6600"/>
                </a:solidFill>
                <a:latin typeface="Arial"/>
              </a:rPr>
              <a:t>M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3"/>
          <p:cNvSpPr/>
          <p:nvPr/>
        </p:nvSpPr>
        <p:spPr>
          <a:xfrm>
            <a:off x="5166720" y="25131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6442920" y="25131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15"/>
          <p:cNvSpPr/>
          <p:nvPr/>
        </p:nvSpPr>
        <p:spPr>
          <a:xfrm>
            <a:off x="7557480" y="2523960"/>
            <a:ext cx="133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6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 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&gt;10</a:t>
            </a:r>
            <a:r>
              <a:rPr b="1" lang="es-ES" sz="1800" spc="-1" strike="noStrike" baseline="30000">
                <a:solidFill>
                  <a:srgbClr val="ff3300"/>
                </a:solidFill>
                <a:latin typeface="Arial"/>
              </a:rPr>
              <a:t>- 4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 B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16"/>
          <p:cNvSpPr/>
          <p:nvPr/>
        </p:nvSpPr>
        <p:spPr>
          <a:xfrm>
            <a:off x="5023800" y="40194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4 </a:t>
            </a: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- 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17"/>
          <p:cNvSpPr/>
          <p:nvPr/>
        </p:nvSpPr>
        <p:spPr>
          <a:xfrm>
            <a:off x="6330240" y="40258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5 </a:t>
            </a: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- 10</a:t>
            </a:r>
            <a:r>
              <a:rPr b="1" lang="es-ES" sz="1800" spc="-1" strike="noStrike" baseline="30000">
                <a:solidFill>
                  <a:srgbClr val="993300"/>
                </a:solidFill>
                <a:latin typeface="Arial"/>
              </a:rPr>
              <a:t>- 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18"/>
          <p:cNvSpPr/>
          <p:nvPr/>
        </p:nvSpPr>
        <p:spPr>
          <a:xfrm>
            <a:off x="7869600" y="4025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19"/>
          <p:cNvSpPr/>
          <p:nvPr/>
        </p:nvSpPr>
        <p:spPr>
          <a:xfrm>
            <a:off x="5223960" y="5695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&lt;10</a:t>
            </a:r>
            <a:r>
              <a:rPr b="1" lang="es-ES" sz="1800" spc="-1" strike="noStrike" baseline="30000">
                <a:solidFill>
                  <a:srgbClr val="006600"/>
                </a:solidFill>
                <a:latin typeface="Arial"/>
              </a:rPr>
              <a:t>- 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20"/>
          <p:cNvSpPr/>
          <p:nvPr/>
        </p:nvSpPr>
        <p:spPr>
          <a:xfrm>
            <a:off x="6463800" y="5695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&lt;10</a:t>
            </a:r>
            <a:r>
              <a:rPr b="1" lang="es-ES" sz="1800" spc="-1" strike="noStrike" baseline="30000">
                <a:solidFill>
                  <a:srgbClr val="006600"/>
                </a:solidFill>
                <a:latin typeface="Arial"/>
              </a:rPr>
              <a:t>- 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21"/>
          <p:cNvSpPr/>
          <p:nvPr/>
        </p:nvSpPr>
        <p:spPr>
          <a:xfrm>
            <a:off x="7880760" y="5695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N/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22"/>
          <p:cNvSpPr/>
          <p:nvPr/>
        </p:nvSpPr>
        <p:spPr>
          <a:xfrm>
            <a:off x="4622760" y="184464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3"/>
          <p:cNvSpPr/>
          <p:nvPr/>
        </p:nvSpPr>
        <p:spPr>
          <a:xfrm>
            <a:off x="6248520" y="18651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24"/>
          <p:cNvSpPr/>
          <p:nvPr/>
        </p:nvSpPr>
        <p:spPr>
          <a:xfrm>
            <a:off x="7504200" y="18651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CuadroTexto 1"/>
          <p:cNvSpPr/>
          <p:nvPr/>
        </p:nvSpPr>
        <p:spPr>
          <a:xfrm>
            <a:off x="250920" y="1052640"/>
            <a:ext cx="86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Comparación de los criterios de Gestión de Riesgo del Método de Matriz de Riesgo y criterios de métodos Cuantitativo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10 Grupo"/>
          <p:cNvGrpSpPr/>
          <p:nvPr/>
        </p:nvGrpSpPr>
        <p:grpSpPr>
          <a:xfrm>
            <a:off x="324000" y="1484280"/>
            <a:ext cx="8640720" cy="2288520"/>
            <a:chOff x="324000" y="1484280"/>
            <a:chExt cx="8640720" cy="2288520"/>
          </a:xfrm>
        </p:grpSpPr>
        <p:sp>
          <p:nvSpPr>
            <p:cNvPr id="834" name="Text Box 3"/>
            <p:cNvSpPr/>
            <p:nvPr/>
          </p:nvSpPr>
          <p:spPr>
            <a:xfrm>
              <a:off x="324000" y="185400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AutoShape 5"/>
            <p:cNvSpPr/>
            <p:nvPr/>
          </p:nvSpPr>
          <p:spPr>
            <a:xfrm>
              <a:off x="3694320" y="2060640"/>
              <a:ext cx="1100160" cy="1155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Text Box 6"/>
            <p:cNvSpPr/>
            <p:nvPr/>
          </p:nvSpPr>
          <p:spPr>
            <a:xfrm>
              <a:off x="4886640" y="1484280"/>
              <a:ext cx="407808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No son tomada acciones para controlar el riesgo evaluado.”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7" name="Rectangle 7"/>
          <p:cNvSpPr/>
          <p:nvPr/>
        </p:nvSpPr>
        <p:spPr>
          <a:xfrm>
            <a:off x="569880" y="4357800"/>
            <a:ext cx="77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3399"/>
                </a:solidFill>
                <a:latin typeface="Arial"/>
              </a:rPr>
              <a:t>¿Cuándo se asumen los riesgos?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10 Grupo"/>
          <p:cNvGrpSpPr/>
          <p:nvPr/>
        </p:nvGrpSpPr>
        <p:grpSpPr>
          <a:xfrm>
            <a:off x="324000" y="1989000"/>
            <a:ext cx="8497800" cy="2288520"/>
            <a:chOff x="324000" y="1989000"/>
            <a:chExt cx="8497800" cy="2288520"/>
          </a:xfrm>
        </p:grpSpPr>
        <p:sp>
          <p:nvSpPr>
            <p:cNvPr id="840" name="Text Box 3"/>
            <p:cNvSpPr/>
            <p:nvPr/>
          </p:nvSpPr>
          <p:spPr>
            <a:xfrm>
              <a:off x="324000" y="2358720"/>
              <a:ext cx="327636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AutoShape 5"/>
            <p:cNvSpPr/>
            <p:nvPr/>
          </p:nvSpPr>
          <p:spPr>
            <a:xfrm>
              <a:off x="3694320" y="2565360"/>
              <a:ext cx="1100160" cy="1155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Text Box 6"/>
            <p:cNvSpPr/>
            <p:nvPr/>
          </p:nvSpPr>
          <p:spPr>
            <a:xfrm>
              <a:off x="4886280" y="1989000"/>
              <a:ext cx="393552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la magnitud del Riesgo no es significativa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Text Box 2"/>
          <p:cNvSpPr/>
          <p:nvPr/>
        </p:nvSpPr>
        <p:spPr>
          <a:xfrm>
            <a:off x="971640" y="173160"/>
            <a:ext cx="76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366840" y="2575080"/>
            <a:ext cx="3276360" cy="15562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iesgo Aceptabl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5" name="Group 1"/>
          <p:cNvGrpSpPr/>
          <p:nvPr/>
        </p:nvGrpSpPr>
        <p:grpSpPr>
          <a:xfrm>
            <a:off x="3857760" y="1268280"/>
            <a:ext cx="5143320" cy="4181760"/>
            <a:chOff x="3857760" y="1268280"/>
            <a:chExt cx="5143320" cy="4181760"/>
          </a:xfrm>
        </p:grpSpPr>
        <p:sp>
          <p:nvSpPr>
            <p:cNvPr id="846" name="Text Box 6"/>
            <p:cNvSpPr/>
            <p:nvPr/>
          </p:nvSpPr>
          <p:spPr>
            <a:xfrm>
              <a:off x="4643280" y="1358640"/>
              <a:ext cx="428616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no existen los recursos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Text Box 9"/>
            <p:cNvSpPr/>
            <p:nvPr/>
          </p:nvSpPr>
          <p:spPr>
            <a:xfrm>
              <a:off x="4651200" y="2943000"/>
              <a:ext cx="434988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Cuando no hay alternativas tecnológicas para proceder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13 Abrir llave"/>
            <p:cNvSpPr/>
            <p:nvPr/>
          </p:nvSpPr>
          <p:spPr>
            <a:xfrm>
              <a:off x="3857760" y="1268280"/>
              <a:ext cx="785520" cy="4181760"/>
            </a:xfrm>
            <a:custGeom>
              <a:avLst/>
              <a:gdLst>
                <a:gd name="textAreaLeft" fmla="*/ 501840 w 785520"/>
                <a:gd name="textAreaRight" fmla="*/ 785880 w 785520"/>
                <a:gd name="textAreaTop" fmla="*/ 211320 h 4181760"/>
                <a:gd name="textAreaBottom" fmla="*/ 3970440 h 418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44"/>
                    <a:pt x="10800" y="3488"/>
                  </a:cubicBezTo>
                  <a:lnTo>
                    <a:pt x="10800" y="7312"/>
                  </a:lnTo>
                  <a:cubicBezTo>
                    <a:pt x="10800" y="9056"/>
                    <a:pt x="5400" y="10800"/>
                    <a:pt x="0" y="10800"/>
                  </a:cubicBezTo>
                  <a:cubicBezTo>
                    <a:pt x="5400" y="10800"/>
                    <a:pt x="10800" y="12544"/>
                    <a:pt x="10800" y="14288"/>
                  </a:cubicBezTo>
                  <a:lnTo>
                    <a:pt x="10800" y="18112"/>
                  </a:lnTo>
                  <a:cubicBezTo>
                    <a:pt x="10800" y="19856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49464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Arial"/>
              </a:rPr>
              <a:t>Identificar los elementos de la evaluación de seguridad que incluye un enfoque probabilístico basado en la estimación de riesgos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Arial"/>
              </a:rPr>
              <a:t>Magnitud de las Consecuencia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99"/>
                </a:solidFill>
                <a:latin typeface="Arial"/>
              </a:rPr>
              <a:t>Análisis de las defensa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0000"/>
                </a:solidFill>
                <a:latin typeface="Arial"/>
              </a:rPr>
              <a:t>Métodos de estimación de Riesgo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  <a:p>
            <a:pPr lvl="1" marL="1093680" indent="-457200">
              <a:spcBef>
                <a:spcPts val="751"/>
              </a:spcBef>
              <a:buClr>
                <a:srgbClr val="c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c00000"/>
                </a:solidFill>
                <a:latin typeface="Arial"/>
              </a:rPr>
              <a:t>Gestión de Riesgos – Toma de Decisiones.</a:t>
            </a:r>
            <a:endParaRPr b="0" i="1" lang="en-US" sz="3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13 Grupo"/>
          <p:cNvGrpSpPr/>
          <p:nvPr/>
        </p:nvGrpSpPr>
        <p:grpSpPr>
          <a:xfrm>
            <a:off x="318960" y="1719360"/>
            <a:ext cx="8501040" cy="3385800"/>
            <a:chOff x="318960" y="1719360"/>
            <a:chExt cx="8501040" cy="3385800"/>
          </a:xfrm>
        </p:grpSpPr>
        <p:sp>
          <p:nvSpPr>
            <p:cNvPr id="851" name="Text Box 2"/>
            <p:cNvSpPr/>
            <p:nvPr/>
          </p:nvSpPr>
          <p:spPr>
            <a:xfrm>
              <a:off x="318960" y="236520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Riesgo Aceptable.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Text Box 6"/>
            <p:cNvSpPr/>
            <p:nvPr/>
          </p:nvSpPr>
          <p:spPr>
            <a:xfrm>
              <a:off x="4952880" y="1719360"/>
              <a:ext cx="3867120" cy="33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Implica la </a:t>
              </a:r>
              <a:r>
                <a:rPr b="1" lang="es-ES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disposición</a:t>
              </a: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 de la instalación para </a:t>
              </a:r>
              <a:r>
                <a:rPr b="1" lang="es-ES" sz="3600" spc="-1" strike="noStrike" u="sng">
                  <a:solidFill>
                    <a:srgbClr val="333399"/>
                  </a:solidFill>
                  <a:uFillTx/>
                  <a:latin typeface="Arial"/>
                </a:rPr>
                <a:t>aceptar por adelantado </a:t>
              </a:r>
              <a:r>
                <a:rPr b="1" lang="es-ES" sz="3600" spc="-1" strike="noStrike">
                  <a:solidFill>
                    <a:srgbClr val="333399"/>
                  </a:solidFill>
                  <a:latin typeface="Arial"/>
                </a:rPr>
                <a:t>las consecuenci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AutoShape 5"/>
            <p:cNvSpPr/>
            <p:nvPr/>
          </p:nvSpPr>
          <p:spPr>
            <a:xfrm>
              <a:off x="3724200" y="257328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00040" y="4851360"/>
            <a:ext cx="77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2d2d8a"/>
                </a:solidFill>
                <a:latin typeface="Arial"/>
              </a:rPr>
              <a:t>¿Cómo?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10 Grupo"/>
          <p:cNvGrpSpPr/>
          <p:nvPr/>
        </p:nvGrpSpPr>
        <p:grpSpPr>
          <a:xfrm>
            <a:off x="347760" y="1484280"/>
            <a:ext cx="8678880" cy="3385800"/>
            <a:chOff x="347760" y="1484280"/>
            <a:chExt cx="8678880" cy="3385800"/>
          </a:xfrm>
        </p:grpSpPr>
        <p:sp>
          <p:nvSpPr>
            <p:cNvPr id="857" name="Text Box 3"/>
            <p:cNvSpPr/>
            <p:nvPr/>
          </p:nvSpPr>
          <p:spPr>
            <a:xfrm>
              <a:off x="347760" y="213012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Text Box 6"/>
            <p:cNvSpPr/>
            <p:nvPr/>
          </p:nvSpPr>
          <p:spPr>
            <a:xfrm>
              <a:off x="4910400" y="1484280"/>
              <a:ext cx="4116240" cy="3385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Establecimiento de los mecanismos para la financiación total o parcial de las pérdid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utoShape 5"/>
            <p:cNvSpPr/>
            <p:nvPr/>
          </p:nvSpPr>
          <p:spPr>
            <a:xfrm>
              <a:off x="3716280" y="233820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7"/>
          <p:cNvSpPr/>
          <p:nvPr/>
        </p:nvSpPr>
        <p:spPr>
          <a:xfrm>
            <a:off x="357120" y="43797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ablecer una provisión real de fondos adecuada y suficiente para cubrir las pérdidas esperad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11 Grupo"/>
          <p:cNvGrpSpPr/>
          <p:nvPr/>
        </p:nvGrpSpPr>
        <p:grpSpPr>
          <a:xfrm>
            <a:off x="285840" y="1714680"/>
            <a:ext cx="8643960" cy="1653120"/>
            <a:chOff x="285840" y="1714680"/>
            <a:chExt cx="8643960" cy="1653120"/>
          </a:xfrm>
        </p:grpSpPr>
        <p:sp>
          <p:nvSpPr>
            <p:cNvPr id="863" name="Text Box 3"/>
            <p:cNvSpPr/>
            <p:nvPr/>
          </p:nvSpPr>
          <p:spPr>
            <a:xfrm>
              <a:off x="285840" y="171468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6"/>
            <p:cNvSpPr/>
            <p:nvPr/>
          </p:nvSpPr>
          <p:spPr>
            <a:xfrm>
              <a:off x="4994280" y="2176560"/>
              <a:ext cx="3935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Retener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AutoShape 5"/>
            <p:cNvSpPr/>
            <p:nvPr/>
          </p:nvSpPr>
          <p:spPr>
            <a:xfrm>
              <a:off x="3719520" y="192240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AutoShape 8"/>
          <p:cNvSpPr/>
          <p:nvPr/>
        </p:nvSpPr>
        <p:spPr>
          <a:xfrm rot="20090400">
            <a:off x="7521120" y="2895120"/>
            <a:ext cx="1059120" cy="1662120"/>
          </a:xfrm>
          <a:custGeom>
            <a:avLst/>
            <a:gdLst>
              <a:gd name="textAreaLeft" fmla="*/ 151200 w 1059120"/>
              <a:gd name="textAreaRight" fmla="*/ 907920 w 1059120"/>
              <a:gd name="textAreaTop" fmla="*/ 949680 h 1662120"/>
              <a:gd name="textAreaBottom" fmla="*/ 1424880 h 16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7"/>
          <p:cNvSpPr/>
          <p:nvPr/>
        </p:nvSpPr>
        <p:spPr>
          <a:xfrm>
            <a:off x="357120" y="4379760"/>
            <a:ext cx="850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uerdos contractuales con un tercero que asumirá posibles pérdidas en caso de que ocurra el evento planificado (Seguro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9" name="11 Grupo"/>
          <p:cNvGrpSpPr/>
          <p:nvPr/>
        </p:nvGrpSpPr>
        <p:grpSpPr>
          <a:xfrm>
            <a:off x="285840" y="1714680"/>
            <a:ext cx="8643960" cy="1653120"/>
            <a:chOff x="285840" y="1714680"/>
            <a:chExt cx="8643960" cy="1653120"/>
          </a:xfrm>
        </p:grpSpPr>
        <p:sp>
          <p:nvSpPr>
            <p:cNvPr id="870" name="Text Box 3"/>
            <p:cNvSpPr/>
            <p:nvPr/>
          </p:nvSpPr>
          <p:spPr>
            <a:xfrm>
              <a:off x="285840" y="171468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Financia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Text Box 6"/>
            <p:cNvSpPr/>
            <p:nvPr/>
          </p:nvSpPr>
          <p:spPr>
            <a:xfrm>
              <a:off x="4994280" y="2176560"/>
              <a:ext cx="3935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3600" spc="-1" strike="noStrike">
                  <a:solidFill>
                    <a:srgbClr val="000000"/>
                  </a:solidFill>
                  <a:latin typeface="Arial"/>
                </a:rPr>
                <a:t>Transferir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AutoShape 5"/>
            <p:cNvSpPr/>
            <p:nvPr/>
          </p:nvSpPr>
          <p:spPr>
            <a:xfrm>
              <a:off x="3719520" y="1922400"/>
              <a:ext cx="1100160" cy="11538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3" name="AutoShape 8"/>
          <p:cNvSpPr/>
          <p:nvPr/>
        </p:nvSpPr>
        <p:spPr>
          <a:xfrm rot="20090400">
            <a:off x="7521120" y="2895120"/>
            <a:ext cx="1059120" cy="1662120"/>
          </a:xfrm>
          <a:custGeom>
            <a:avLst/>
            <a:gdLst>
              <a:gd name="textAreaLeft" fmla="*/ 151200 w 1059120"/>
              <a:gd name="textAreaRight" fmla="*/ 907920 w 1059120"/>
              <a:gd name="textAreaTop" fmla="*/ 949680 h 1662120"/>
              <a:gd name="textAreaBottom" fmla="*/ 1424880 h 1662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7"/>
          <p:cNvSpPr/>
          <p:nvPr/>
        </p:nvSpPr>
        <p:spPr>
          <a:xfrm>
            <a:off x="1979640" y="43797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jemplo: Plan de Emergenc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11 Grupo"/>
          <p:cNvGrpSpPr/>
          <p:nvPr/>
        </p:nvGrpSpPr>
        <p:grpSpPr>
          <a:xfrm>
            <a:off x="285840" y="1628640"/>
            <a:ext cx="8643960" cy="2288520"/>
            <a:chOff x="285840" y="1628640"/>
            <a:chExt cx="8643960" cy="2288520"/>
          </a:xfrm>
        </p:grpSpPr>
        <p:sp>
          <p:nvSpPr>
            <p:cNvPr id="877" name="Text Box 3"/>
            <p:cNvSpPr/>
            <p:nvPr/>
          </p:nvSpPr>
          <p:spPr>
            <a:xfrm>
              <a:off x="285840" y="1720440"/>
              <a:ext cx="327672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Proteger el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Text Box 6"/>
            <p:cNvSpPr/>
            <p:nvPr/>
          </p:nvSpPr>
          <p:spPr>
            <a:xfrm>
              <a:off x="4994280" y="1628640"/>
              <a:ext cx="3935520" cy="228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Para limitar la magnitud de las consecuencias no deseadas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AutoShape 5"/>
            <p:cNvSpPr/>
            <p:nvPr/>
          </p:nvSpPr>
          <p:spPr>
            <a:xfrm>
              <a:off x="3729240" y="192852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500040" y="4143240"/>
            <a:ext cx="8143920" cy="2297880"/>
          </a:xfrm>
          <a:prstGeom prst="rect">
            <a:avLst/>
          </a:prstGeom>
          <a:solidFill>
            <a:srgbClr val="ffffff"/>
          </a:solidFill>
          <a:ln cap="rnd"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cuerde: Prevenir actúa sobre las amenazas y Proteger actúa sobre las consecuenci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Line 9"/>
          <p:cNvSpPr/>
          <p:nvPr/>
        </p:nvSpPr>
        <p:spPr>
          <a:xfrm>
            <a:off x="684360" y="5157720"/>
            <a:ext cx="18000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Line 10"/>
          <p:cNvSpPr/>
          <p:nvPr/>
        </p:nvSpPr>
        <p:spPr>
          <a:xfrm>
            <a:off x="3095640" y="5157720"/>
            <a:ext cx="1405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Line 11"/>
          <p:cNvSpPr/>
          <p:nvPr/>
        </p:nvSpPr>
        <p:spPr>
          <a:xfrm>
            <a:off x="611280" y="5661000"/>
            <a:ext cx="2916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5" name="14 Grupo"/>
          <p:cNvGrpSpPr/>
          <p:nvPr/>
        </p:nvGrpSpPr>
        <p:grpSpPr>
          <a:xfrm>
            <a:off x="285840" y="1628640"/>
            <a:ext cx="8572320" cy="1739880"/>
            <a:chOff x="285840" y="1628640"/>
            <a:chExt cx="8572320" cy="1739880"/>
          </a:xfrm>
        </p:grpSpPr>
        <p:sp>
          <p:nvSpPr>
            <p:cNvPr id="886" name="Text Box 5"/>
            <p:cNvSpPr/>
            <p:nvPr/>
          </p:nvSpPr>
          <p:spPr>
            <a:xfrm>
              <a:off x="4991040" y="1628640"/>
              <a:ext cx="3867120" cy="1739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600" spc="-1" strike="noStrike">
                  <a:solidFill>
                    <a:srgbClr val="000000"/>
                  </a:solidFill>
                  <a:latin typeface="Arial"/>
                </a:rPr>
                <a:t>Actuar sobre la causa que genera el riesgo.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Text Box 6"/>
            <p:cNvSpPr/>
            <p:nvPr/>
          </p:nvSpPr>
          <p:spPr>
            <a:xfrm>
              <a:off x="285840" y="1720440"/>
              <a:ext cx="3276360" cy="1556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Prevenir el  Riesgo</a:t>
              </a:r>
              <a:endParaRPr b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AutoShape 5"/>
            <p:cNvSpPr/>
            <p:nvPr/>
          </p:nvSpPr>
          <p:spPr>
            <a:xfrm>
              <a:off x="3726000" y="1928520"/>
              <a:ext cx="1100160" cy="1154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9" name="Line 9"/>
          <p:cNvSpPr/>
          <p:nvPr/>
        </p:nvSpPr>
        <p:spPr>
          <a:xfrm>
            <a:off x="2700360" y="4653000"/>
            <a:ext cx="147636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 Box 2"/>
          <p:cNvSpPr/>
          <p:nvPr/>
        </p:nvSpPr>
        <p:spPr>
          <a:xfrm>
            <a:off x="1276200" y="260280"/>
            <a:ext cx="76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ESTIÓN DE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2" name="Imagen 1" descr=""/>
          <p:cNvPicPr/>
          <p:nvPr/>
        </p:nvPicPr>
        <p:blipFill>
          <a:blip r:embed="rId1"/>
          <a:stretch/>
        </p:blipFill>
        <p:spPr>
          <a:xfrm>
            <a:off x="1859040" y="1359000"/>
            <a:ext cx="5425920" cy="4140000"/>
          </a:xfrm>
          <a:prstGeom prst="rect">
            <a:avLst/>
          </a:prstGeom>
          <a:ln w="0">
            <a:noFill/>
          </a:ln>
        </p:spPr>
      </p:pic>
      <p:sp>
        <p:nvSpPr>
          <p:cNvPr id="893" name="CuadroTexto 4"/>
          <p:cNvSpPr/>
          <p:nvPr/>
        </p:nvSpPr>
        <p:spPr>
          <a:xfrm>
            <a:off x="4861080" y="5046840"/>
            <a:ext cx="36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GRACIA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/>
          <p:cNvSpPr/>
          <p:nvPr/>
        </p:nvSpPr>
        <p:spPr>
          <a:xfrm flipV="1">
            <a:off x="2567160" y="2638440"/>
            <a:ext cx="276120" cy="1371600"/>
          </a:xfrm>
          <a:prstGeom prst="upArrow">
            <a:avLst>
              <a:gd name="adj1" fmla="val 50000"/>
              <a:gd name="adj2" fmla="val 124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3"/>
          <p:cNvSpPr/>
          <p:nvPr/>
        </p:nvSpPr>
        <p:spPr>
          <a:xfrm>
            <a:off x="2057400" y="4162320"/>
            <a:ext cx="3429000" cy="45720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4"/>
          <p:cNvSpPr/>
          <p:nvPr/>
        </p:nvSpPr>
        <p:spPr>
          <a:xfrm>
            <a:off x="271944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324468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3" name="Group 6"/>
          <p:cNvGrpSpPr/>
          <p:nvPr/>
        </p:nvGrpSpPr>
        <p:grpSpPr>
          <a:xfrm>
            <a:off x="5410080" y="1954080"/>
            <a:ext cx="3733920" cy="4776840"/>
            <a:chOff x="5410080" y="1954080"/>
            <a:chExt cx="3733920" cy="4776840"/>
          </a:xfrm>
        </p:grpSpPr>
        <p:sp>
          <p:nvSpPr>
            <p:cNvPr id="584" name="AutoShape 7"/>
            <p:cNvSpPr/>
            <p:nvPr/>
          </p:nvSpPr>
          <p:spPr>
            <a:xfrm>
              <a:off x="5410080" y="1954080"/>
              <a:ext cx="3733920" cy="4776840"/>
            </a:xfrm>
            <a:prstGeom prst="irregularSeal1">
              <a:avLst/>
            </a:prstGeom>
            <a:solidFill>
              <a:srgbClr val="ffffa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WordArt 8"/>
            <p:cNvSpPr txBox="1"/>
            <p:nvPr/>
          </p:nvSpPr>
          <p:spPr>
            <a:xfrm>
              <a:off x="6380280" y="3236040"/>
              <a:ext cx="1906560" cy="191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a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Exposición 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a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Accidental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586" name="AutoShape 9"/>
          <p:cNvSpPr/>
          <p:nvPr/>
        </p:nvSpPr>
        <p:spPr>
          <a:xfrm flipV="1" rot="18900000">
            <a:off x="1480680" y="3377520"/>
            <a:ext cx="302040" cy="838440"/>
          </a:xfrm>
          <a:prstGeom prst="upArrow">
            <a:avLst>
              <a:gd name="adj1" fmla="val 50000"/>
              <a:gd name="adj2" fmla="val 69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AutoShape 10"/>
          <p:cNvSpPr/>
          <p:nvPr/>
        </p:nvSpPr>
        <p:spPr>
          <a:xfrm flipV="1" rot="13500000">
            <a:off x="1475640" y="4509720"/>
            <a:ext cx="302040" cy="838440"/>
          </a:xfrm>
          <a:prstGeom prst="upArrow">
            <a:avLst>
              <a:gd name="adj1" fmla="val 50000"/>
              <a:gd name="adj2" fmla="val 6939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Line 11"/>
          <p:cNvSpPr/>
          <p:nvPr/>
        </p:nvSpPr>
        <p:spPr>
          <a:xfrm>
            <a:off x="4343400" y="401004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395280" y="2922480"/>
            <a:ext cx="10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rror huma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324000" y="5154480"/>
            <a:ext cx="1081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Equip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14"/>
          <p:cNvSpPr/>
          <p:nvPr/>
        </p:nvSpPr>
        <p:spPr>
          <a:xfrm>
            <a:off x="2112840" y="1967040"/>
            <a:ext cx="1297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5"/>
          <p:cNvSpPr/>
          <p:nvPr/>
        </p:nvSpPr>
        <p:spPr>
          <a:xfrm>
            <a:off x="3346560" y="5516640"/>
            <a:ext cx="129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6"/>
          <p:cNvSpPr/>
          <p:nvPr/>
        </p:nvSpPr>
        <p:spPr>
          <a:xfrm>
            <a:off x="3811680" y="1979640"/>
            <a:ext cx="1296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lo de Barrera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7"/>
          <p:cNvSpPr/>
          <p:nvPr/>
        </p:nvSpPr>
        <p:spPr>
          <a:xfrm flipV="1" rot="10800000">
            <a:off x="2916000" y="4786200"/>
            <a:ext cx="276120" cy="1371600"/>
          </a:xfrm>
          <a:prstGeom prst="upArrow">
            <a:avLst>
              <a:gd name="adj1" fmla="val 50000"/>
              <a:gd name="adj2" fmla="val 124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8"/>
          <p:cNvSpPr/>
          <p:nvPr/>
        </p:nvSpPr>
        <p:spPr>
          <a:xfrm flipV="1">
            <a:off x="4224240" y="2638440"/>
            <a:ext cx="276480" cy="1371600"/>
          </a:xfrm>
          <a:prstGeom prst="upArrow">
            <a:avLst>
              <a:gd name="adj1" fmla="val 50000"/>
              <a:gd name="adj2" fmla="val 124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9"/>
          <p:cNvSpPr/>
          <p:nvPr/>
        </p:nvSpPr>
        <p:spPr>
          <a:xfrm>
            <a:off x="0" y="-27000"/>
            <a:ext cx="9144000" cy="17398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66"/>
                </a:solidFill>
                <a:latin typeface="Times New Roman"/>
              </a:rPr>
              <a:t>Lección aprendida de los accidentes:  </a:t>
            </a:r>
            <a:r>
              <a:rPr b="1" i="1" lang="es-ES_tradnl" sz="3600" spc="-1" strike="noStrike">
                <a:solidFill>
                  <a:srgbClr val="ffffff"/>
                </a:solidFill>
                <a:latin typeface="Times New Roman"/>
              </a:rPr>
              <a:t>pocas veces los accidentes ocurren debido a un único suces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Picture 21" descr="Varianepid"/>
          <p:cNvPicPr/>
          <p:nvPr/>
        </p:nvPicPr>
        <p:blipFill>
          <a:blip r:embed="rId1"/>
          <a:stretch/>
        </p:blipFill>
        <p:spPr>
          <a:xfrm>
            <a:off x="108000" y="3716280"/>
            <a:ext cx="1258920" cy="1168560"/>
          </a:xfrm>
          <a:prstGeom prst="rect">
            <a:avLst/>
          </a:prstGeom>
          <a:ln w="28440">
            <a:solidFill>
              <a:srgbClr val="cc00cc"/>
            </a:solidFill>
            <a:miter/>
          </a:ln>
        </p:spPr>
      </p:pic>
      <p:sp>
        <p:nvSpPr>
          <p:cNvPr id="598" name="22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2F42-4EBD-4599-8287-EAD023C65CC1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0" y="1673280"/>
            <a:ext cx="9144000" cy="5214600"/>
          </a:xfrm>
          <a:prstGeom prst="rect">
            <a:avLst/>
          </a:prstGeom>
          <a:solidFill>
            <a:srgbClr val="73737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Comic Sans MS"/>
              </a:rPr>
              <a:t>para llegar a una exposición accidental debe ocurrir un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MX" sz="7200" spc="-1" strike="noStrike">
                <a:solidFill>
                  <a:srgbClr val="ff0000"/>
                </a:solidFill>
                <a:latin typeface="Times New Roman"/>
              </a:rPr>
              <a:t>suceso iniciador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MX" sz="6000" spc="-1" strike="noStrike">
                <a:solidFill>
                  <a:srgbClr val="000000"/>
                </a:solidFill>
                <a:latin typeface="Comic Sans MS"/>
              </a:rPr>
              <a:t>y una</a:t>
            </a:r>
            <a:r>
              <a:rPr b="1" lang="es-MX" sz="6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MX" sz="7200" spc="-1" strike="noStrike">
                <a:solidFill>
                  <a:srgbClr val="ff0000"/>
                </a:solidFill>
                <a:latin typeface="Times New Roman"/>
              </a:rPr>
              <a:t>secuencia accidental</a:t>
            </a:r>
            <a:r>
              <a:rPr b="1" lang="es-MX" sz="6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6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921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Arial"/>
              </a:rPr>
              <a:t>Métodos de estimación de Riesg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Line 4"/>
          <p:cNvSpPr/>
          <p:nvPr/>
        </p:nvSpPr>
        <p:spPr>
          <a:xfrm>
            <a:off x="4789440" y="4341960"/>
            <a:ext cx="1432080" cy="0"/>
          </a:xfrm>
          <a:prstGeom prst="line">
            <a:avLst/>
          </a:prstGeom>
          <a:ln w="82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3836880" y="3860640"/>
            <a:ext cx="0" cy="881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6"/>
          <p:cNvSpPr/>
          <p:nvPr/>
        </p:nvSpPr>
        <p:spPr>
          <a:xfrm>
            <a:off x="457200" y="2943360"/>
            <a:ext cx="1963800" cy="10634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rror Humano o Falla de Equipos(f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318276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8"/>
          <p:cNvSpPr/>
          <p:nvPr/>
        </p:nvSpPr>
        <p:spPr>
          <a:xfrm>
            <a:off x="334656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9"/>
          <p:cNvSpPr/>
          <p:nvPr/>
        </p:nvSpPr>
        <p:spPr>
          <a:xfrm>
            <a:off x="351000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3673440" y="3789360"/>
            <a:ext cx="0" cy="952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2697120" y="3149640"/>
            <a:ext cx="1646280" cy="85716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rreras de Seguridad (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723960" y="4341960"/>
            <a:ext cx="1431720" cy="1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Picture 13" descr="BD05584_"/>
          <p:cNvPicPr/>
          <p:nvPr/>
        </p:nvPicPr>
        <p:blipFill>
          <a:blip r:embed="rId1"/>
          <a:srcRect l="31980" t="36451" r="31980" b="41658"/>
          <a:stretch/>
        </p:blipFill>
        <p:spPr>
          <a:xfrm>
            <a:off x="4861080" y="4938840"/>
            <a:ext cx="1288800" cy="93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1" name="Rectangle 14"/>
          <p:cNvSpPr/>
          <p:nvPr/>
        </p:nvSpPr>
        <p:spPr>
          <a:xfrm>
            <a:off x="4640400" y="3443400"/>
            <a:ext cx="1731960" cy="56340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osición Accident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15"/>
          <p:cNvSpPr/>
          <p:nvPr/>
        </p:nvSpPr>
        <p:spPr>
          <a:xfrm>
            <a:off x="6664320" y="3289320"/>
            <a:ext cx="2228760" cy="7142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nsecuencias (C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16" descr=""/>
          <p:cNvPicPr/>
          <p:nvPr/>
        </p:nvPicPr>
        <p:blipFill>
          <a:blip r:embed="rId2"/>
          <a:srcRect l="3504" t="3506" r="3504" b="3506"/>
          <a:stretch/>
        </p:blipFill>
        <p:spPr>
          <a:xfrm>
            <a:off x="841320" y="4830840"/>
            <a:ext cx="1197000" cy="114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4" name="Rectangle 17"/>
          <p:cNvSpPr/>
          <p:nvPr/>
        </p:nvSpPr>
        <p:spPr>
          <a:xfrm>
            <a:off x="2408400" y="2046240"/>
            <a:ext cx="4335480" cy="662040"/>
          </a:xfrm>
          <a:prstGeom prst="rect">
            <a:avLst/>
          </a:prstGeom>
          <a:solidFill>
            <a:srgbClr val="9ebaf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ctr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R = f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×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5" name="Picture 18" descr="Posicionamiento del paciente"/>
          <p:cNvPicPr/>
          <p:nvPr/>
        </p:nvPicPr>
        <p:blipFill>
          <a:blip r:embed="rId3">
            <a:lum bright="12000"/>
          </a:blip>
          <a:srcRect l="10888" t="0" r="0" b="13533"/>
          <a:stretch/>
        </p:blipFill>
        <p:spPr>
          <a:xfrm>
            <a:off x="2540160" y="4648320"/>
            <a:ext cx="196056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16" name="Picture 2056" descr=""/>
          <p:cNvPicPr/>
          <p:nvPr/>
        </p:nvPicPr>
        <p:blipFill>
          <a:blip r:embed="rId4"/>
          <a:stretch/>
        </p:blipFill>
        <p:spPr>
          <a:xfrm>
            <a:off x="7169040" y="4194000"/>
            <a:ext cx="1203480" cy="18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7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23840" y="1000080"/>
            <a:ext cx="86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Todos los métodos de estimación de riesgo están basados en la ecuación general del Riesg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3"/>
          <p:cNvGrpSpPr/>
          <p:nvPr/>
        </p:nvGrpSpPr>
        <p:grpSpPr>
          <a:xfrm>
            <a:off x="1692360" y="1055520"/>
            <a:ext cx="7200360" cy="5391360"/>
            <a:chOff x="1692360" y="1055520"/>
            <a:chExt cx="7200360" cy="5391360"/>
          </a:xfrm>
        </p:grpSpPr>
        <p:sp>
          <p:nvSpPr>
            <p:cNvPr id="620" name="Rectangle 4"/>
            <p:cNvSpPr/>
            <p:nvPr/>
          </p:nvSpPr>
          <p:spPr>
            <a:xfrm>
              <a:off x="1912320" y="1055520"/>
              <a:ext cx="6905880" cy="5387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AutoShape 6"/>
            <p:cNvSpPr/>
            <p:nvPr/>
          </p:nvSpPr>
          <p:spPr>
            <a:xfrm>
              <a:off x="4251960" y="119844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dentificació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 Peligro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" name="Group 8"/>
            <p:cNvGrpSpPr/>
            <p:nvPr/>
          </p:nvGrpSpPr>
          <p:grpSpPr>
            <a:xfrm>
              <a:off x="1763640" y="1108800"/>
              <a:ext cx="2100600" cy="891000"/>
              <a:chOff x="1763640" y="1108800"/>
              <a:chExt cx="2100600" cy="891000"/>
            </a:xfrm>
          </p:grpSpPr>
          <p:sp>
            <p:nvSpPr>
              <p:cNvPr id="623" name="Oval 9"/>
              <p:cNvSpPr/>
              <p:nvPr/>
            </p:nvSpPr>
            <p:spPr>
              <a:xfrm>
                <a:off x="1763640" y="1108800"/>
                <a:ext cx="2100600" cy="89100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Text Box 10"/>
              <p:cNvSpPr/>
              <p:nvPr/>
            </p:nvSpPr>
            <p:spPr>
              <a:xfrm>
                <a:off x="1928880" y="1173240"/>
                <a:ext cx="171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¿Que puede pasar?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5" name="Text Box 11"/>
            <p:cNvSpPr/>
            <p:nvPr/>
          </p:nvSpPr>
          <p:spPr>
            <a:xfrm>
              <a:off x="6794640" y="1217160"/>
              <a:ext cx="2058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Identificación de peligros y sus causa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AutoShape 12"/>
            <p:cNvSpPr/>
            <p:nvPr/>
          </p:nvSpPr>
          <p:spPr>
            <a:xfrm>
              <a:off x="3997800" y="14274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AutoShape 13"/>
            <p:cNvSpPr/>
            <p:nvPr/>
          </p:nvSpPr>
          <p:spPr>
            <a:xfrm rot="10800000">
              <a:off x="6560280" y="14274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15"/>
            <p:cNvSpPr/>
            <p:nvPr/>
          </p:nvSpPr>
          <p:spPr>
            <a:xfrm>
              <a:off x="4244760" y="359928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álculo del Riesg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7"/>
            <p:cNvGrpSpPr/>
            <p:nvPr/>
          </p:nvGrpSpPr>
          <p:grpSpPr>
            <a:xfrm>
              <a:off x="1763640" y="2757960"/>
              <a:ext cx="2100600" cy="891360"/>
              <a:chOff x="1763640" y="2757960"/>
              <a:chExt cx="2100600" cy="891360"/>
            </a:xfrm>
          </p:grpSpPr>
          <p:sp>
            <p:nvSpPr>
              <p:cNvPr id="630" name="Oval 18"/>
              <p:cNvSpPr/>
              <p:nvPr/>
            </p:nvSpPr>
            <p:spPr>
              <a:xfrm>
                <a:off x="1763640" y="2757960"/>
                <a:ext cx="2100600" cy="89136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9"/>
              <p:cNvSpPr/>
              <p:nvPr/>
            </p:nvSpPr>
            <p:spPr>
              <a:xfrm>
                <a:off x="1972440" y="2991960"/>
                <a:ext cx="171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¿Cual es el Riesgo?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AutoShape 21"/>
            <p:cNvSpPr/>
            <p:nvPr/>
          </p:nvSpPr>
          <p:spPr>
            <a:xfrm>
              <a:off x="4249080" y="287460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Análisis de la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nsecuencia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Text Box 23"/>
            <p:cNvSpPr/>
            <p:nvPr/>
          </p:nvSpPr>
          <p:spPr>
            <a:xfrm>
              <a:off x="6794640" y="2286720"/>
              <a:ext cx="162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Eventos/ Añ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24"/>
            <p:cNvSpPr/>
            <p:nvPr/>
          </p:nvSpPr>
          <p:spPr>
            <a:xfrm>
              <a:off x="6794640" y="2768040"/>
              <a:ext cx="19731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Resultado mas probable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(Consecu./Evento)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25"/>
            <p:cNvSpPr/>
            <p:nvPr/>
          </p:nvSpPr>
          <p:spPr>
            <a:xfrm>
              <a:off x="6794640" y="3745080"/>
              <a:ext cx="20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Frecuen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r>
                <a:rPr b="1" sz="1600" spc="-1" strike="noStrike">
                  <a:solidFill>
                    <a:srgbClr val="ffffff"/>
                  </a:solidFill>
                  <a:latin typeface="Arial"/>
                </a:rPr>
                <a:t> x Consec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" name="Group 26"/>
            <p:cNvGrpSpPr/>
            <p:nvPr/>
          </p:nvGrpSpPr>
          <p:grpSpPr>
            <a:xfrm>
              <a:off x="3978360" y="2137680"/>
              <a:ext cx="2562120" cy="637200"/>
              <a:chOff x="3978360" y="2137680"/>
              <a:chExt cx="2562120" cy="637200"/>
            </a:xfrm>
          </p:grpSpPr>
          <p:sp>
            <p:nvSpPr>
              <p:cNvPr id="637" name="AutoShape 28"/>
              <p:cNvSpPr/>
              <p:nvPr/>
            </p:nvSpPr>
            <p:spPr>
              <a:xfrm>
                <a:off x="4249080" y="2137680"/>
                <a:ext cx="2291400" cy="637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996633"/>
                  </a:gs>
                  <a:gs pos="50000">
                    <a:srgbClr val="d6b19c"/>
                  </a:gs>
                  <a:gs pos="100000">
                    <a:srgbClr val="99663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Análisis de la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ffffff"/>
                    </a:solidFill>
                    <a:latin typeface="Arial"/>
                  </a:rPr>
                  <a:t>Frecuencia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AutoShape 30"/>
              <p:cNvSpPr/>
              <p:nvPr/>
            </p:nvSpPr>
            <p:spPr>
              <a:xfrm>
                <a:off x="3978360" y="2325600"/>
                <a:ext cx="253800" cy="190440"/>
              </a:xfrm>
              <a:prstGeom prst="rightArrow">
                <a:avLst>
                  <a:gd name="adj1" fmla="val 50000"/>
                  <a:gd name="adj2" fmla="val 33318"/>
                </a:avLst>
              </a:prstGeom>
              <a:solidFill>
                <a:srgbClr val="fe5b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9" name="AutoShape 31"/>
            <p:cNvSpPr/>
            <p:nvPr/>
          </p:nvSpPr>
          <p:spPr>
            <a:xfrm>
              <a:off x="3978360" y="31359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AutoShape 32"/>
            <p:cNvSpPr/>
            <p:nvPr/>
          </p:nvSpPr>
          <p:spPr>
            <a:xfrm>
              <a:off x="3692160" y="314136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AutoShape 33"/>
            <p:cNvSpPr/>
            <p:nvPr/>
          </p:nvSpPr>
          <p:spPr>
            <a:xfrm rot="10800000">
              <a:off x="6553080" y="235944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AutoShape 34"/>
            <p:cNvSpPr/>
            <p:nvPr/>
          </p:nvSpPr>
          <p:spPr>
            <a:xfrm rot="10800000">
              <a:off x="6560280" y="30769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AutoShape 35"/>
            <p:cNvSpPr/>
            <p:nvPr/>
          </p:nvSpPr>
          <p:spPr>
            <a:xfrm rot="10800000">
              <a:off x="6557400" y="382500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36"/>
            <p:cNvSpPr/>
            <p:nvPr/>
          </p:nvSpPr>
          <p:spPr>
            <a:xfrm>
              <a:off x="3983760" y="384192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Line 37"/>
            <p:cNvSpPr/>
            <p:nvPr/>
          </p:nvSpPr>
          <p:spPr>
            <a:xfrm>
              <a:off x="3964320" y="2376360"/>
              <a:ext cx="0" cy="1591920"/>
            </a:xfrm>
            <a:prstGeom prst="line">
              <a:avLst/>
            </a:prstGeom>
            <a:ln w="9360">
              <a:solidFill>
                <a:srgbClr val="dc5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Text Box 38"/>
            <p:cNvSpPr/>
            <p:nvPr/>
          </p:nvSpPr>
          <p:spPr>
            <a:xfrm>
              <a:off x="6794640" y="5866200"/>
              <a:ext cx="1974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Implementación de la gestión.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Text Box 39"/>
            <p:cNvSpPr/>
            <p:nvPr/>
          </p:nvSpPr>
          <p:spPr>
            <a:xfrm>
              <a:off x="6794640" y="4521240"/>
              <a:ext cx="197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terio ALARP 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AutoShape 41"/>
            <p:cNvSpPr/>
            <p:nvPr/>
          </p:nvSpPr>
          <p:spPr>
            <a:xfrm>
              <a:off x="4233600" y="434880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oma de decision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AutoShape 44"/>
            <p:cNvSpPr/>
            <p:nvPr/>
          </p:nvSpPr>
          <p:spPr>
            <a:xfrm>
              <a:off x="4232160" y="509832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ducción d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iesgo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AutoShape 47"/>
            <p:cNvSpPr/>
            <p:nvPr/>
          </p:nvSpPr>
          <p:spPr>
            <a:xfrm>
              <a:off x="4232160" y="5797080"/>
              <a:ext cx="2291400" cy="63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6b19c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Supervisión 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Vigilancia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Group 49"/>
            <p:cNvGrpSpPr/>
            <p:nvPr/>
          </p:nvGrpSpPr>
          <p:grpSpPr>
            <a:xfrm>
              <a:off x="1692360" y="4990320"/>
              <a:ext cx="2136960" cy="821160"/>
              <a:chOff x="1692360" y="4990320"/>
              <a:chExt cx="2136960" cy="821160"/>
            </a:xfrm>
          </p:grpSpPr>
          <p:sp>
            <p:nvSpPr>
              <p:cNvPr id="652" name="Oval 50"/>
              <p:cNvSpPr/>
              <p:nvPr/>
            </p:nvSpPr>
            <p:spPr>
              <a:xfrm>
                <a:off x="1728720" y="4990320"/>
                <a:ext cx="2100600" cy="821160"/>
              </a:xfrm>
              <a:prstGeom prst="ellipse">
                <a:avLst/>
              </a:prstGeom>
              <a:solidFill>
                <a:srgbClr val="cdd3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Text Box 51"/>
              <p:cNvSpPr/>
              <p:nvPr/>
            </p:nvSpPr>
            <p:spPr>
              <a:xfrm>
                <a:off x="1692360" y="5216040"/>
                <a:ext cx="21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" sz="1600" spc="-1" strike="noStrike">
                    <a:solidFill>
                      <a:srgbClr val="000000"/>
                    </a:solidFill>
                    <a:latin typeface="Arial"/>
                  </a:rPr>
                  <a:t>Gestión del Riesgo </a:t>
                </a:r>
                <a:endParaRPr b="1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AutoShape 52"/>
            <p:cNvSpPr/>
            <p:nvPr/>
          </p:nvSpPr>
          <p:spPr>
            <a:xfrm rot="10800000">
              <a:off x="6543360" y="45871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AutoShape 53"/>
            <p:cNvSpPr/>
            <p:nvPr/>
          </p:nvSpPr>
          <p:spPr>
            <a:xfrm rot="10800000">
              <a:off x="6560280" y="603612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AutoShape 54"/>
            <p:cNvSpPr/>
            <p:nvPr/>
          </p:nvSpPr>
          <p:spPr>
            <a:xfrm>
              <a:off x="3964320" y="53355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AutoShape 55"/>
            <p:cNvSpPr/>
            <p:nvPr/>
          </p:nvSpPr>
          <p:spPr>
            <a:xfrm>
              <a:off x="3964320" y="605304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AutoShape 56"/>
            <p:cNvSpPr/>
            <p:nvPr/>
          </p:nvSpPr>
          <p:spPr>
            <a:xfrm>
              <a:off x="3683520" y="533556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57"/>
            <p:cNvSpPr/>
            <p:nvPr/>
          </p:nvSpPr>
          <p:spPr>
            <a:xfrm>
              <a:off x="3947400" y="4618080"/>
              <a:ext cx="0" cy="1591920"/>
            </a:xfrm>
            <a:prstGeom prst="line">
              <a:avLst/>
            </a:prstGeom>
            <a:ln w="9360">
              <a:solidFill>
                <a:srgbClr val="dc51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AutoShape 58"/>
            <p:cNvSpPr/>
            <p:nvPr/>
          </p:nvSpPr>
          <p:spPr>
            <a:xfrm>
              <a:off x="3947400" y="4545360"/>
              <a:ext cx="253800" cy="190800"/>
            </a:xfrm>
            <a:prstGeom prst="rightArrow">
              <a:avLst>
                <a:gd name="adj1" fmla="val 50000"/>
                <a:gd name="adj2" fmla="val 33255"/>
              </a:avLst>
            </a:prstGeom>
            <a:solidFill>
              <a:srgbClr val="fe5b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Text Box 59"/>
            <p:cNvSpPr/>
            <p:nvPr/>
          </p:nvSpPr>
          <p:spPr>
            <a:xfrm>
              <a:off x="6794640" y="5244120"/>
              <a:ext cx="197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osto-beneficio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AutoShape 60"/>
            <p:cNvSpPr/>
            <p:nvPr/>
          </p:nvSpPr>
          <p:spPr>
            <a:xfrm rot="10800000">
              <a:off x="6543360" y="5314320"/>
              <a:ext cx="253800" cy="190440"/>
            </a:xfrm>
            <a:prstGeom prst="rightArrow">
              <a:avLst>
                <a:gd name="adj1" fmla="val 50000"/>
                <a:gd name="adj2" fmla="val 33318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61"/>
            <p:cNvSpPr/>
            <p:nvPr/>
          </p:nvSpPr>
          <p:spPr>
            <a:xfrm>
              <a:off x="1930680" y="4302360"/>
              <a:ext cx="684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62"/>
            <p:cNvSpPr/>
            <p:nvPr/>
          </p:nvSpPr>
          <p:spPr>
            <a:xfrm>
              <a:off x="1936440" y="2081520"/>
              <a:ext cx="68400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5" name="Text Box 62"/>
          <p:cNvSpPr/>
          <p:nvPr/>
        </p:nvSpPr>
        <p:spPr>
          <a:xfrm>
            <a:off x="34920" y="2589120"/>
            <a:ext cx="1841400" cy="155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Métodos de Estimación de Ries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78920" y="1074600"/>
            <a:ext cx="774252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La Estimación de Riesgo puede ser realizada utilizando tres enfoques: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380880" y="1989000"/>
            <a:ext cx="819468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uantitativo,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Semi-Cuantitativo,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3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333399"/>
                </a:solidFill>
                <a:latin typeface="Arial"/>
              </a:rPr>
              <a:t>Cualitativo.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254160" y="3646440"/>
            <a:ext cx="87818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dos los enfoques implican pasos similares y se puede utilizar cualquiera de las diferentes técnicas que se han desarrollado para implementar cada uno de estos enfo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3"/>
          <p:cNvSpPr/>
          <p:nvPr/>
        </p:nvSpPr>
        <p:spPr>
          <a:xfrm>
            <a:off x="250920" y="1125360"/>
            <a:ext cx="8610480" cy="4559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étodos Cuantitativo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n valores numéricos obtenidos de diferentes fuentes (por ejemplo, datos de análisis históricos o experimentales, datos proporcionados por los fabricantes, datos obtenidos de bancos de datos genéricos) y realizan cálculos utilizando modelos matemátic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Cuantifican mediante arboles de eventos o arboles de fallo o mediante Análisis Probabilista de Seguridad (PSA) que se destaca como el método mas complete entre los métodos cuantitativo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3"/>
          <p:cNvSpPr/>
          <p:nvPr/>
        </p:nvSpPr>
        <p:spPr>
          <a:xfrm>
            <a:off x="250920" y="1125360"/>
            <a:ext cx="8610480" cy="3652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étodos Cualitativos y Semi-cuantitativo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tilizan índices o niveles de probabilidad y gravedad de las consecuencias, combinando información de varias fuentes, algunas de las cuales pueden ser cuantitativas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El método de Matriz de Riesgo puede ser usado como método cualitati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0000"/>
                </a:solidFill>
                <a:latin typeface="Arial"/>
              </a:rPr>
              <a:t>El método de Número de Prioridad del Riesgo (RPN) puede ser usado como método semi-cuantitativo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1085760" y="189000"/>
            <a:ext cx="78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ÉTODOS DE ESTIMACIÓN DE RIESGO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36:05Z</dcterms:created>
  <dc:creator>TSA1</dc:creator>
  <dc:description/>
  <dc:language>en-US</dc:language>
  <cp:lastModifiedBy>DRÁBOVÁ, Veronika</cp:lastModifiedBy>
  <cp:lastPrinted>2012-03-07T09:50:48Z</cp:lastPrinted>
  <dcterms:modified xsi:type="dcterms:W3CDTF">2020-01-22T12:43:19Z</dcterms:modified>
  <cp:revision>1240</cp:revision>
  <dc:subject/>
  <dc:title>L05 Elementos de la evaluación  de la seguridad I</dc:title>
</cp:coreProperties>
</file>