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1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12"/>
          </p:nvPr>
        </p:nvSpPr>
        <p:spPr>
          <a:xfrm>
            <a:off x="0" y="9410400"/>
            <a:ext cx="294336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valuación de Seguridad en Instalaciones Radiac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13"/>
          </p:nvPr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0829FF-BDFB-463A-847F-384E6CDEA0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como resultado de una evaluación de seguridad, o por cualquier otra razón, las oportunidades para mejorar la protección y la seguridad parecen estar disponibles y la mejora parece ser deseable, cualquier modificación consecuente se realizará con precaución y solo después de una evaluación favorable de todas las implicaciones para la protección y la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Requisito 15: Prevención y mitigación de accid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43. Si la evaluación de la seguridad indica que existen probabilidades razonables de que se produzca una emergencia que afecte a los trabajadores o a los miembros del publico, el titular registrado o el titular de la licencia preparara un plan de emergencia para la protección de las personas y el medio ambiente. Como parte de ese plan, el titular registrado o el titular de la licencia incluirá disposiciones para la rápida identificación de la emergencia y la determinación del nivel apropiad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respuesta a la emergencia [15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Marcador de número de diapositiva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9DCF3F-8ABC-4BC9-87D7-89E47D1723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3C43B3-849A-41FD-940B-8019AD8F69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7000" y="76212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20520" y="4719600"/>
            <a:ext cx="498780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49840" y="941076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E926C4-C75A-4F4B-AA00-20467E362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7000" y="76212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0520" y="4719600"/>
            <a:ext cx="4987800" cy="44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C95172-6362-47A1-B774-32103CCA50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5FE96-7F6A-41C6-B558-3B3873A6FC0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FA922-CBAA-4F86-AC14-CDB0A26837C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B708A8-5093-4491-B8C6-D4991B491C9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0B0754-2E11-47E1-9E10-E26099AAA83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C49739-FA3B-43AC-BCEA-B381140C19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523D2A-C3E7-49BC-AB17-3F4BF42B1A2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18FE09-22EE-493A-91BE-F0F4D302819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FB97B9-C29E-4092-857E-3223256860B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10ECC-0B86-4DD2-9142-DF3747DCA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980F8-43EC-40CA-B4AF-22EFAE39E2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FC0F6-3AC2-4A21-8093-0F91A52E552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0D961-156C-494F-85DA-4CB56B05615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B85CE-13A0-4B9D-B1F5-24C1A62BAE8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93D5E-AB41-41EB-AFE9-20768A934B3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E80827-4556-47F7-B6AE-FEE16D39774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CD042-C4D2-424E-A8B6-55EB3D855D3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9162B-BB6B-4B68-9838-A7B79B8F0FE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4480D-A7C5-40AC-A10F-809BEABCA59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02E05-9398-4C09-8FAD-15807D55E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3BD94-848A-4D72-B635-6F2F1C620E5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2606C-C6CC-4278-935E-B5C3A526031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26532-91BA-4357-A28C-E272601C38D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B781-E72E-4B23-B647-67F8D1CB66A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57D3D-2C13-4FC4-9FE3-127E52B4908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316D9-8455-46D1-853B-FA241992121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8DD0-903D-4A93-8013-AE8C9A7DFE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99BB-75DB-41EE-8D50-BAFB94B1E1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C022-3066-4344-BA2F-5027C242F1A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73FC1-A9AE-4D17-A25E-2ED47FEED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31FC-2552-4E80-BBB4-565589C71C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B06F-3AD7-42F3-862B-8268FC620B0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6B91A-33C9-4F71-9E97-10815FD263F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C19A7-D296-454A-BBC0-A9CBCE0EC0B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1A088D-BF58-4A58-9C49-7CAAAD018F9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C7B42-6AB6-42F9-8B07-466B08B7B3E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21B05-63E2-46AB-B41D-80A6987F113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12250-71D7-47AF-A139-3E2D84798C2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A06BB-DBEE-4FE4-B9B1-80329550B1D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F839A-78F2-4C7F-ABBE-2D90F0B8E0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CA42D-E8BB-4923-A7EC-19096B3CE9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EF4C0F-24DF-42A4-A8B7-4426B1FD1EA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8E729-EA16-4DBC-8025-B85E9570578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83365B-494C-4DD5-B521-DA3C0D2E7B8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B3AB79-31DE-4E85-B75F-FD64C1691C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3C00-2AAD-4151-8F0D-28045AF72A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6AC0-96CF-4E1C-81BC-8A6CE81990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953E-22DD-4CF6-8511-34FE3701FE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0F69-5313-4D84-868E-6E9B8AEEAB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68DB-5F76-46D6-ABCB-2D70308D9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18F9-A0E8-4004-8FC3-11A01C529F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32E9-2D4C-4947-8622-BCD4793C3E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B353-21F1-46F6-8296-37E5337745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FD54-09A3-4462-BB13-B4CF9FD88F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1D5F-C704-4A26-838F-145A8AE825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1CD1-E21D-40AA-A78F-AEB7BDFD82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0690-979B-4C37-A2DF-01413844543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A9E7-A2EC-4FFB-B6D7-3360CEE75F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3447-F372-4E8E-9496-DB128F4087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49713-B88E-48A7-9EF9-1F8AE8AD7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89D6-D247-4F52-AB43-9C6D6C7B12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4928-240B-40B8-A0DB-4B65352C26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7425-7B24-4FB3-9692-CFEC813D18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25FB-7378-466C-91A7-2B8095CA64A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1CB4-32D4-40E8-B83B-9CBAEAFAB3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35D7-5B2B-4E94-869F-0EA408EECA5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53B6B-A36D-4330-842E-6EC8CA4DA2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B70C-A4F3-4201-9842-EE5777A092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D943-5468-4054-9D8F-19428A6A029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52D-50F8-4346-ADA3-7D09F75DF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F70-BD72-48A0-92AE-C114CB4B60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7CB-13ED-45C3-835A-6DB936F6FC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9A1-5DF6-4884-A841-208D0AA6D3D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62C-B8B6-4D36-BE1A-AA12081E24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D60-745D-4AC6-8CEE-81DC9B3C5EC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4FC-F573-40EC-9C27-20D19AB9E9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73A-4CB7-45B1-AD0E-4B969E51A34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720B-56D6-45DA-9B33-CA4223F934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315-19B9-4450-A798-B5DACBFCF6F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1D4-D241-4EA8-B0BA-14196F0B2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DEA-A1A3-4F56-89E6-414FE6D81F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9BC8A-45B6-4DD9-A24C-674C215CA4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7391C-5F59-4245-9AA8-C6D68FEC61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185DE-E345-460A-8FEB-B424753359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FC093-A9C7-4BD9-8AA4-4495148771F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8384E-45CD-418B-AB2D-35FD36F69B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7BB97-8588-4360-AF9C-2E58784BCAE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8B0CC-223F-44E9-9D2B-2ED08CCC3A9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85EA9-17AC-4B9A-928D-836BB5D3A7E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F33D2-792F-4484-A6F5-6E67FE727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42889A-15C0-4AE8-A69E-C7F33523FCF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7CCDC-40FE-4A72-9292-ED30B5032F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41A6D-D744-4EB8-B60A-F34143C9B3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791B9-FE1E-4DE9-94A1-568306B38A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62CFD-E582-48B0-9B6E-9C2689B24D6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E80BA-7C87-4E13-A36B-2457BDB48DE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8DF42-5CB2-44EE-9C26-B4E522C1F9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47CB8-ECAD-42D6-8168-34D5A788077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08874-183B-4552-8093-7655E6A22FB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1099A-DD03-4786-8639-444649652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68240-D0D6-4CFD-A0E3-FB3B0784C1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D533F-BCC2-49B4-B1C2-E8D1A70E02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6B002-E230-4810-AFEB-96B84143D87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07E08-2F98-4281-ABFB-DEA253243A5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B252D-E726-4929-8B1A-2A3710E008C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9021-535F-4161-9F5D-33033F9D8F9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86AF-B079-42D0-8066-1F42F7D022B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F937-2FEE-4711-AFBD-7930EBCFD0D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A3A4-7FBB-4C27-947E-7ED0D24E72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BBF2-BFF8-459F-A109-68DD53B8F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042560" y="31320"/>
            <a:ext cx="79218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EF96-4C14-4D5B-B1C0-93A0DDDA2D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BCB0-86C5-4BFC-A269-19B7D17B71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D2F4-C13F-483D-8DA8-F1AEACE30BF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9201-5807-422E-90B6-D4A794A4B48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360" y="3863880"/>
            <a:ext cx="822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0648-AB15-42CA-AC80-45A93EC2785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5400" y="126792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836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85400" y="3863880"/>
            <a:ext cx="40158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7993-AF4D-4588-9B7F-3FC7BE012E6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080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33240" y="126792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836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080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33240" y="3863880"/>
            <a:ext cx="264960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714A-3E04-4258-867D-6D4F2200D20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6DCA6-1093-4C42-9495-77BFD4834CF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08655-4C8E-4CB8-9EDB-CD5176166DF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B1525-8AF6-468A-BD0D-68B145B46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9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8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24A7-643E-44DD-A8F4-9A20F4192DF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38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9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4991-8ADB-4BF3-9039-BB08BAC5D37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48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10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D3A9-048F-4412-9771-801A03C78B42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10" descr=""/>
          <p:cNvPicPr/>
          <p:nvPr/>
        </p:nvPicPr>
        <p:blipFill>
          <a:blip r:embed="rId2"/>
          <a:srcRect l="33219" t="32303" r="34288" b="32623"/>
          <a:stretch/>
        </p:blipFill>
        <p:spPr>
          <a:xfrm>
            <a:off x="3740040" y="404640"/>
            <a:ext cx="1598760" cy="1381320"/>
          </a:xfrm>
          <a:prstGeom prst="rect">
            <a:avLst/>
          </a:prstGeom>
          <a:ln w="31680">
            <a:solidFill>
              <a:srgbClr val="6598ff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85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024D-824F-4C51-9B5E-6A566475196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29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17 CuadroTexto"/>
          <p:cNvSpPr/>
          <p:nvPr/>
        </p:nvSpPr>
        <p:spPr>
          <a:xfrm>
            <a:off x="2340000" y="6434280"/>
            <a:ext cx="518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500" spc="-1" strike="noStrike">
                <a:solidFill>
                  <a:srgbClr val="333399"/>
                </a:solidFill>
                <a:latin typeface="Arial"/>
              </a:rPr>
              <a:t>Evaluación de Seguridad en Instalaciones Radiactiva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2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46A-832E-45A9-9372-947388E2F6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174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3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E3E5-D3B6-4BC1-A7EE-05CC3C157D5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18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4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AB0F-F5D1-4E1E-9E27-AAB7291CED9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262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5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B49D-C2C2-42DF-80DA-6540BA6A713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06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6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6AE3-F90D-41E0-ADE9-5962184987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b2ff"/>
            </a:gs>
            <a:gs pos="50000">
              <a:srgbClr val="ffffff"/>
            </a:gs>
            <a:gs pos="100000">
              <a:srgbClr val="8bb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0" y="-27000"/>
            <a:ext cx="9144000" cy="1008000"/>
          </a:xfrm>
          <a:prstGeom prst="rect">
            <a:avLst/>
          </a:prstGeom>
          <a:gradFill rotWithShape="0">
            <a:gsLst>
              <a:gs pos="0">
                <a:srgbClr val="6598ff"/>
              </a:gs>
              <a:gs pos="100000">
                <a:srgbClr val="93b7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14" descr="800px-IAEA_flag"/>
          <p:cNvPicPr/>
          <p:nvPr/>
        </p:nvPicPr>
        <p:blipFill>
          <a:blip r:embed="rId2"/>
          <a:srcRect l="24093" t="14150" r="23449" b="12937"/>
          <a:stretch/>
        </p:blipFill>
        <p:spPr>
          <a:xfrm>
            <a:off x="34920" y="-3240"/>
            <a:ext cx="936720" cy="911160"/>
          </a:xfrm>
          <a:prstGeom prst="rect">
            <a:avLst/>
          </a:prstGeom>
          <a:ln w="0">
            <a:noFill/>
          </a:ln>
        </p:spPr>
      </p:pic>
      <p:sp>
        <p:nvSpPr>
          <p:cNvPr id="350" name="Line 1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14400" y="-11160"/>
            <a:ext cx="9144000" cy="0"/>
          </a:xfrm>
          <a:prstGeom prst="line">
            <a:avLst/>
          </a:prstGeom>
          <a:ln w="25560">
            <a:solidFill>
              <a:srgbClr val="659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7"/>
          </p:nvPr>
        </p:nvSpPr>
        <p:spPr>
          <a:xfrm>
            <a:off x="7843680" y="6474960"/>
            <a:ext cx="65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9993-BF48-4AE1-A050-9E0137375F4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214200" y="2492280"/>
            <a:ext cx="87156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99"/>
                </a:solidFill>
                <a:latin typeface="Arial"/>
              </a:rPr>
              <a:t>L02.- Evaluación de Seguridad en la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GSR Parte 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50920" y="5418000"/>
            <a:ext cx="87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s-MX" sz="1800" spc="-1" strike="noStrike">
                <a:solidFill>
                  <a:srgbClr val="333399"/>
                </a:solidFill>
                <a:latin typeface="Arial"/>
              </a:rPr>
              <a:t>Organismo Internacional de Energía Atómica</a:t>
            </a:r>
            <a:r>
              <a:rPr b="1" i="1" lang="es-MX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68360" y="126792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Toda persona u organización que solicite una autorización es responsable por la realización de una evaluación de la seguridad que presentará al órgano regulador como parte de la solicitud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64" name="Object 4"/>
          <p:cNvGraphicFramePr/>
          <p:nvPr/>
        </p:nvGraphicFramePr>
        <p:xfrm>
          <a:off x="3276720" y="3295800"/>
          <a:ext cx="285732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295800"/>
                    <a:ext cx="285732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6603840" y="4572000"/>
            <a:ext cx="2111400" cy="18572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7440" y="107172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quisito 13: Evaluación de la segurid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14200" y="1571760"/>
            <a:ext cx="8593200" cy="357192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El órgano regulador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ablecerá requisitos aplicables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a personas u organizaciones responsables de instalaciones y actividades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den lugar a riesgos radiológicos para que realicen una evaluación adecuada de la seguridad.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ntes de conceder una autorización,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la persona u organización responsable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deberá presentar una evaluación de la seguridad que el órgano regulador revisará y evaluará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5" descr=""/>
          <p:cNvPicPr/>
          <p:nvPr/>
        </p:nvPicPr>
        <p:blipFill>
          <a:blip r:embed="rId1"/>
          <a:stretch/>
        </p:blipFill>
        <p:spPr>
          <a:xfrm>
            <a:off x="7594560" y="836640"/>
            <a:ext cx="1154160" cy="101448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17440" y="107172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Requisito 13: Evaluación de la segurida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255600" y="1484280"/>
            <a:ext cx="8888400" cy="460872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Los solicitantes de autorización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realizarán una evaluación de la seguridad que sea genérica o especifica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ara la practica o fuente de la que sean responsable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Una evaluación genérica de la seguridad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uele bastar para los tipos de fuente con un diseño muy uniforme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(donde la seguridad de la práctica se garantiza básicamente con la seguridad de la fuente)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La evaluación especifica de la seguridad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e suele exigir en otros casos; no obstante, las evaluaciones especificas de la seguridad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no tienen que incluir los aspectos que abarca una evaluación genérica de la seguridad,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i esta se ha realizado para la fuente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07640" y="980640"/>
            <a:ext cx="8721720" cy="538812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evaluación de la seguridad incluirá, según corresponda, un examen critico sistemático de: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os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limites y condiciones operacionales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para la explotación de la instalación;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formas en que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las estructuras, los sistemas y los componentes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, incluidos los programas informáticos, y los procedimientos relativos a la protección y la seguridad podrían fallar, individualmente o en combinación, o podrían dar lugar de otro modo a exposiciones, y las consecuencias de esos sucesos;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formas en que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factores externos podrían afectar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a la protección y la seguridad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formas en que los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procedimientos operacionales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relacionados con la protección y la seguridad podrían ser erróneos, y las consecuencias de esos errores.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implicaciones para la protección y la seguridad de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toda modificación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las implicaciones para la protección y la seguridad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de las medidas de seguridad física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 o de toda modificación de esas medidas,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toda </a:t>
            </a:r>
            <a:r>
              <a:rPr b="1" i="1" lang="es-ES" sz="1800" spc="-1" strike="noStrike">
                <a:solidFill>
                  <a:srgbClr val="333399"/>
                </a:solidFill>
                <a:latin typeface="Arial"/>
              </a:rPr>
              <a:t>incertidumbre o supuesto </a:t>
            </a: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y sus implicaciones para la protección y la seguridad</a:t>
            </a:r>
            <a:endParaRPr b="0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5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00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7640" y="1000080"/>
            <a:ext cx="8628120" cy="495000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8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333399"/>
                </a:solidFill>
                <a:latin typeface="Arial"/>
              </a:rPr>
              <a:t>El titular registrado o el titular de la licencia tendrá en cuenta en la evaluación de la seguridad:</a:t>
            </a:r>
            <a:endParaRPr b="1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76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factores que podrían </a:t>
            </a:r>
            <a:r>
              <a:rPr b="1" i="1" lang="es-ES" sz="1900" spc="-1" strike="noStrike">
                <a:solidFill>
                  <a:srgbClr val="333399"/>
                </a:solidFill>
                <a:latin typeface="Arial"/>
              </a:rPr>
              <a:t>precipitar una emisión importante de material radiactivo, las medidas disponibles para evitar o controlar esa emisión</a:t>
            </a: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, y la actividad máxima de material radiactivo que, en caso de un fallo importante de la contención, podría emitirse al medio ambiente;</a:t>
            </a:r>
            <a:endParaRPr b="0" i="1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76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factores que podrían </a:t>
            </a:r>
            <a:r>
              <a:rPr b="1" i="1" lang="es-ES" sz="1900" spc="-1" strike="noStrike">
                <a:solidFill>
                  <a:srgbClr val="333399"/>
                </a:solidFill>
                <a:latin typeface="Arial"/>
              </a:rPr>
              <a:t>precipitar una emisión menor pero constante de material radiactivo</a:t>
            </a: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, y las medidas disponibles para detectar y evitar o controlar esa emisión;</a:t>
            </a:r>
            <a:endParaRPr b="0" i="1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76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factores que podrían dar lugar </a:t>
            </a:r>
            <a:r>
              <a:rPr b="1" i="1" lang="es-ES" sz="1900" spc="-1" strike="noStrike">
                <a:solidFill>
                  <a:srgbClr val="333399"/>
                </a:solidFill>
                <a:latin typeface="Arial"/>
              </a:rPr>
              <a:t>al funcionamiento involuntario de cualquier generador de radiación o a una perdida del blindaje</a:t>
            </a: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, y las medidas disponibles para detectar y evitar o controlar esos sucesos;</a:t>
            </a:r>
            <a:endParaRPr b="0" i="1" lang="en-US" sz="1900" spc="-1" strike="noStrike">
              <a:solidFill>
                <a:srgbClr val="333399"/>
              </a:solidFill>
              <a:latin typeface="Arial"/>
            </a:endParaRPr>
          </a:p>
          <a:p>
            <a:pPr lvl="1" marL="455760" indent="-280080">
              <a:spcBef>
                <a:spcPts val="476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el grado en que se han empleado </a:t>
            </a:r>
            <a:r>
              <a:rPr b="1" i="1" lang="es-ES" sz="1900" spc="-1" strike="noStrike">
                <a:solidFill>
                  <a:srgbClr val="333399"/>
                </a:solidFill>
                <a:latin typeface="Arial"/>
              </a:rPr>
              <a:t>elementos de seguridad redundantes y diversos</a:t>
            </a:r>
            <a:r>
              <a:rPr b="0" i="1" lang="es-ES" sz="1900" spc="-1" strike="noStrike">
                <a:solidFill>
                  <a:srgbClr val="333399"/>
                </a:solidFill>
                <a:latin typeface="Arial"/>
              </a:rPr>
              <a:t>, que sean independientes entre si, de modo que el fallo de uno no de lugar al fallo del otro. Garantizando que sean adecuados para limitar las probabilidades y la magnitud de la exposición potencial.</a:t>
            </a:r>
            <a:endParaRPr b="0" i="1" lang="en-US" sz="19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0" name="Picture 7" descr="MCj00823530000[1]"/>
          <p:cNvPicPr/>
          <p:nvPr/>
        </p:nvPicPr>
        <p:blipFill>
          <a:blip r:embed="rId1"/>
          <a:stretch/>
        </p:blipFill>
        <p:spPr>
          <a:xfrm>
            <a:off x="8248680" y="5661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Los titulares registrados y los titulares de las licencias asegurarán que la evaluación de la seguridad este documentada y, según convenga, que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sea sometida a un examen independiente en el marco del sistema de gestión pertinente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2" name="3 Marcador de número de diapositiva"/>
          <p:cNvSpPr/>
          <p:nvPr/>
        </p:nvSpPr>
        <p:spPr>
          <a:xfrm>
            <a:off x="8299440" y="6369120"/>
            <a:ext cx="6825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7434-3D76-4436-B3CB-4F54BDC5B12E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Picture 8" descr="MCBD06622_0000[1]"/>
          <p:cNvPicPr/>
          <p:nvPr/>
        </p:nvPicPr>
        <p:blipFill>
          <a:blip r:embed="rId1"/>
          <a:stretch/>
        </p:blipFill>
        <p:spPr>
          <a:xfrm>
            <a:off x="3379680" y="3213000"/>
            <a:ext cx="2552760" cy="29703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1 Objeto"/>
          <p:cNvGraphicFramePr/>
          <p:nvPr/>
        </p:nvGraphicFramePr>
        <p:xfrm>
          <a:off x="7818480" y="1052640"/>
          <a:ext cx="132552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1 Objet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8480" y="1052640"/>
                    <a:ext cx="132552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214200" y="981000"/>
            <a:ext cx="7886880" cy="540072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Se realizaran exámenes adicionales y actualizaciones de la evaluación de la seguridad cuando: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revea introducir modificaciones importantes</a:t>
            </a:r>
            <a:br>
              <a:rPr sz="2000"/>
            </a:b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en la instalación o en sus procedimientos operacionales o de mantenimiento;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roduzcan cambios importantes en el emplazamiento que pudieran afectar a la seguridad de la instalación o de las actividades en el emplazamiento;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la información sobre la experiencia operacional, o la información sobre accidentes y otros incidentes que podrían dar origen a exposiciones, indique que la evaluación actual podría no ser valida;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revea introducir cambios importantes en las actividades;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460440" indent="-282960">
              <a:spcBef>
                <a:spcPts val="499"/>
              </a:spcBef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33399"/>
                </a:solidFill>
                <a:latin typeface="Arial"/>
              </a:rPr>
              <a:t>se prevea introducir o se hayan introducido cambios pertinentes en las directrices o normas.</a:t>
            </a:r>
            <a:endParaRPr b="0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031" descr="18MV maze entrance"/>
          <p:cNvPicPr/>
          <p:nvPr/>
        </p:nvPicPr>
        <p:blipFill>
          <a:blip r:embed="rId1"/>
          <a:srcRect l="7257" t="0" r="0" b="0"/>
          <a:stretch/>
        </p:blipFill>
        <p:spPr>
          <a:xfrm>
            <a:off x="5881680" y="3525840"/>
            <a:ext cx="2759040" cy="227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90" name="5 Rectángulo"/>
          <p:cNvSpPr/>
          <p:nvPr/>
        </p:nvSpPr>
        <p:spPr>
          <a:xfrm>
            <a:off x="324000" y="2403360"/>
            <a:ext cx="62640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13840" y="1142640"/>
            <a:ext cx="8572680" cy="271476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i como resultado de una evaluación de la seguridad, o por cualquier otra razón, parecen existir oportunidades de mejorar la protección y la seguridad y las mejoras parecen conveniente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toda modificación consiguiente se hará con cautela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y no antes de disponer de una evaluación favorable de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todas las implicaciones para la protección y la seguridad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2" name="5 Rectángulo"/>
          <p:cNvSpPr/>
          <p:nvPr/>
        </p:nvSpPr>
        <p:spPr>
          <a:xfrm>
            <a:off x="214200" y="4145040"/>
            <a:ext cx="5715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d2d8a"/>
                </a:solidFill>
                <a:latin typeface="Arial"/>
              </a:rPr>
              <a:t>La puesta en practica de todas las mejoras seguirá </a:t>
            </a:r>
            <a:r>
              <a:rPr b="1" lang="es-ES" sz="2600" spc="-1" strike="noStrike">
                <a:solidFill>
                  <a:srgbClr val="2d2d8a"/>
                </a:solidFill>
                <a:latin typeface="Arial"/>
              </a:rPr>
              <a:t>un orden de prioridades</a:t>
            </a:r>
            <a:r>
              <a:rPr b="1" lang="es-ES" sz="24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d2d8a"/>
                </a:solidFill>
                <a:latin typeface="Arial"/>
              </a:rPr>
              <a:t>que permita optimizar la protección y la seguridad</a:t>
            </a:r>
            <a:r>
              <a:rPr b="1" lang="es-ES" sz="2400" spc="-1" strike="noStrike">
                <a:solidFill>
                  <a:srgbClr val="2d2d8a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1000080" y="0"/>
            <a:ext cx="78296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CIÓN DE SEGURIDAD DE INSTALACIONES Y ACTIVIDA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142560"/>
            <a:ext cx="803592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A EVALUACIÓN DE SEGURIDAD Y LA PREPARACIÓN Y RESPUESTA A EMERGENCIA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1028"/>
          <p:cNvGrpSpPr/>
          <p:nvPr/>
        </p:nvGrpSpPr>
        <p:grpSpPr>
          <a:xfrm>
            <a:off x="5580000" y="3900600"/>
            <a:ext cx="2687760" cy="2407680"/>
            <a:chOff x="5580000" y="3900600"/>
            <a:chExt cx="2687760" cy="2407680"/>
          </a:xfrm>
        </p:grpSpPr>
        <p:sp>
          <p:nvSpPr>
            <p:cNvPr id="596" name="Freeform 1029"/>
            <p:cNvSpPr/>
            <p:nvPr/>
          </p:nvSpPr>
          <p:spPr>
            <a:xfrm>
              <a:off x="5580000" y="3911400"/>
              <a:ext cx="2687760" cy="2396880"/>
            </a:xfrm>
            <a:custGeom>
              <a:avLst/>
              <a:gdLst>
                <a:gd name="textAreaLeft" fmla="*/ 0 w 2687760"/>
                <a:gd name="textAreaRight" fmla="*/ 2687760 w 2687760"/>
                <a:gd name="textAreaTop" fmla="*/ 0 h 2396880"/>
                <a:gd name="textAreaBottom" fmla="*/ 2397240 h 2396880"/>
              </a:gdLst>
              <a:ahLst/>
              <a:rect l="textAreaLeft" t="textAreaTop" r="textAreaRight" b="textAreaBottom"/>
              <a:pathLst>
                <a:path w="2302" h="2294">
                  <a:moveTo>
                    <a:pt x="1596" y="41"/>
                  </a:moveTo>
                  <a:lnTo>
                    <a:pt x="161" y="15"/>
                  </a:lnTo>
                  <a:lnTo>
                    <a:pt x="154" y="41"/>
                  </a:lnTo>
                  <a:lnTo>
                    <a:pt x="135" y="45"/>
                  </a:lnTo>
                  <a:lnTo>
                    <a:pt x="120" y="38"/>
                  </a:lnTo>
                  <a:lnTo>
                    <a:pt x="113" y="26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34" y="15"/>
                  </a:lnTo>
                  <a:lnTo>
                    <a:pt x="23" y="53"/>
                  </a:lnTo>
                  <a:lnTo>
                    <a:pt x="8" y="237"/>
                  </a:lnTo>
                  <a:lnTo>
                    <a:pt x="0" y="484"/>
                  </a:lnTo>
                  <a:lnTo>
                    <a:pt x="4" y="533"/>
                  </a:lnTo>
                  <a:lnTo>
                    <a:pt x="387" y="2133"/>
                  </a:lnTo>
                  <a:lnTo>
                    <a:pt x="394" y="2208"/>
                  </a:lnTo>
                  <a:lnTo>
                    <a:pt x="413" y="2241"/>
                  </a:lnTo>
                  <a:lnTo>
                    <a:pt x="447" y="2275"/>
                  </a:lnTo>
                  <a:lnTo>
                    <a:pt x="477" y="2271"/>
                  </a:lnTo>
                  <a:lnTo>
                    <a:pt x="499" y="2241"/>
                  </a:lnTo>
                  <a:lnTo>
                    <a:pt x="522" y="2211"/>
                  </a:lnTo>
                  <a:lnTo>
                    <a:pt x="545" y="2204"/>
                  </a:lnTo>
                  <a:lnTo>
                    <a:pt x="563" y="2215"/>
                  </a:lnTo>
                  <a:lnTo>
                    <a:pt x="578" y="2234"/>
                  </a:lnTo>
                  <a:lnTo>
                    <a:pt x="2268" y="2294"/>
                  </a:lnTo>
                  <a:lnTo>
                    <a:pt x="2287" y="2286"/>
                  </a:lnTo>
                  <a:lnTo>
                    <a:pt x="2298" y="2268"/>
                  </a:lnTo>
                  <a:lnTo>
                    <a:pt x="2291" y="2249"/>
                  </a:lnTo>
                  <a:lnTo>
                    <a:pt x="2268" y="2241"/>
                  </a:lnTo>
                  <a:lnTo>
                    <a:pt x="612" y="2204"/>
                  </a:lnTo>
                  <a:lnTo>
                    <a:pt x="597" y="2185"/>
                  </a:lnTo>
                  <a:lnTo>
                    <a:pt x="571" y="2170"/>
                  </a:lnTo>
                  <a:lnTo>
                    <a:pt x="545" y="2166"/>
                  </a:lnTo>
                  <a:lnTo>
                    <a:pt x="518" y="2166"/>
                  </a:lnTo>
                  <a:lnTo>
                    <a:pt x="499" y="2181"/>
                  </a:lnTo>
                  <a:lnTo>
                    <a:pt x="492" y="2193"/>
                  </a:lnTo>
                  <a:lnTo>
                    <a:pt x="484" y="2208"/>
                  </a:lnTo>
                  <a:lnTo>
                    <a:pt x="473" y="2223"/>
                  </a:lnTo>
                  <a:lnTo>
                    <a:pt x="454" y="2219"/>
                  </a:lnTo>
                  <a:lnTo>
                    <a:pt x="447" y="2211"/>
                  </a:lnTo>
                  <a:lnTo>
                    <a:pt x="439" y="2193"/>
                  </a:lnTo>
                  <a:lnTo>
                    <a:pt x="439" y="2181"/>
                  </a:lnTo>
                  <a:lnTo>
                    <a:pt x="439" y="2065"/>
                  </a:lnTo>
                  <a:lnTo>
                    <a:pt x="451" y="1952"/>
                  </a:lnTo>
                  <a:lnTo>
                    <a:pt x="469" y="1843"/>
                  </a:lnTo>
                  <a:lnTo>
                    <a:pt x="499" y="1772"/>
                  </a:lnTo>
                  <a:lnTo>
                    <a:pt x="511" y="1761"/>
                  </a:lnTo>
                  <a:lnTo>
                    <a:pt x="514" y="1753"/>
                  </a:lnTo>
                  <a:lnTo>
                    <a:pt x="522" y="1750"/>
                  </a:lnTo>
                  <a:lnTo>
                    <a:pt x="545" y="1750"/>
                  </a:lnTo>
                  <a:lnTo>
                    <a:pt x="563" y="1783"/>
                  </a:lnTo>
                  <a:lnTo>
                    <a:pt x="590" y="1802"/>
                  </a:lnTo>
                  <a:lnTo>
                    <a:pt x="631" y="1798"/>
                  </a:lnTo>
                  <a:lnTo>
                    <a:pt x="2261" y="1840"/>
                  </a:lnTo>
                  <a:lnTo>
                    <a:pt x="2276" y="1836"/>
                  </a:lnTo>
                  <a:lnTo>
                    <a:pt x="2294" y="1828"/>
                  </a:lnTo>
                  <a:lnTo>
                    <a:pt x="2298" y="1817"/>
                  </a:lnTo>
                  <a:lnTo>
                    <a:pt x="2302" y="1810"/>
                  </a:lnTo>
                  <a:lnTo>
                    <a:pt x="2298" y="1795"/>
                  </a:lnTo>
                  <a:lnTo>
                    <a:pt x="2294" y="1787"/>
                  </a:lnTo>
                  <a:lnTo>
                    <a:pt x="2291" y="1780"/>
                  </a:lnTo>
                  <a:lnTo>
                    <a:pt x="2287" y="1776"/>
                  </a:lnTo>
                  <a:lnTo>
                    <a:pt x="1596" y="41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6600"/>
                </a:gs>
              </a:gsLst>
              <a:lin ang="5400000"/>
            </a:gradFill>
            <a:ln w="0">
              <a:solidFill>
                <a:srgbClr val="8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030"/>
            <p:cNvSpPr/>
            <p:nvPr/>
          </p:nvSpPr>
          <p:spPr>
            <a:xfrm>
              <a:off x="6092280" y="5739840"/>
              <a:ext cx="2135160" cy="51372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1829" h="491">
                  <a:moveTo>
                    <a:pt x="1822" y="90"/>
                  </a:moveTo>
                  <a:lnTo>
                    <a:pt x="192" y="48"/>
                  </a:lnTo>
                  <a:lnTo>
                    <a:pt x="151" y="52"/>
                  </a:lnTo>
                  <a:lnTo>
                    <a:pt x="124" y="33"/>
                  </a:lnTo>
                  <a:lnTo>
                    <a:pt x="106" y="0"/>
                  </a:lnTo>
                  <a:lnTo>
                    <a:pt x="83" y="0"/>
                  </a:lnTo>
                  <a:lnTo>
                    <a:pt x="75" y="3"/>
                  </a:lnTo>
                  <a:lnTo>
                    <a:pt x="72" y="11"/>
                  </a:lnTo>
                  <a:lnTo>
                    <a:pt x="60" y="22"/>
                  </a:lnTo>
                  <a:lnTo>
                    <a:pt x="30" y="93"/>
                  </a:lnTo>
                  <a:lnTo>
                    <a:pt x="12" y="202"/>
                  </a:lnTo>
                  <a:lnTo>
                    <a:pt x="0" y="315"/>
                  </a:lnTo>
                  <a:lnTo>
                    <a:pt x="0" y="431"/>
                  </a:lnTo>
                  <a:lnTo>
                    <a:pt x="0" y="443"/>
                  </a:lnTo>
                  <a:lnTo>
                    <a:pt x="8" y="461"/>
                  </a:lnTo>
                  <a:lnTo>
                    <a:pt x="15" y="469"/>
                  </a:lnTo>
                  <a:lnTo>
                    <a:pt x="34" y="473"/>
                  </a:lnTo>
                  <a:lnTo>
                    <a:pt x="45" y="458"/>
                  </a:lnTo>
                  <a:lnTo>
                    <a:pt x="53" y="446"/>
                  </a:lnTo>
                  <a:lnTo>
                    <a:pt x="60" y="431"/>
                  </a:lnTo>
                  <a:lnTo>
                    <a:pt x="79" y="416"/>
                  </a:lnTo>
                  <a:lnTo>
                    <a:pt x="106" y="416"/>
                  </a:lnTo>
                  <a:lnTo>
                    <a:pt x="132" y="420"/>
                  </a:lnTo>
                  <a:lnTo>
                    <a:pt x="158" y="435"/>
                  </a:lnTo>
                  <a:lnTo>
                    <a:pt x="173" y="454"/>
                  </a:lnTo>
                  <a:lnTo>
                    <a:pt x="1829" y="491"/>
                  </a:lnTo>
                  <a:lnTo>
                    <a:pt x="1807" y="446"/>
                  </a:lnTo>
                  <a:lnTo>
                    <a:pt x="1788" y="401"/>
                  </a:lnTo>
                  <a:lnTo>
                    <a:pt x="1777" y="341"/>
                  </a:lnTo>
                  <a:lnTo>
                    <a:pt x="1777" y="285"/>
                  </a:lnTo>
                  <a:lnTo>
                    <a:pt x="1777" y="229"/>
                  </a:lnTo>
                  <a:lnTo>
                    <a:pt x="1792" y="176"/>
                  </a:lnTo>
                  <a:lnTo>
                    <a:pt x="1822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99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31"/>
            <p:cNvSpPr/>
            <p:nvPr/>
          </p:nvSpPr>
          <p:spPr>
            <a:xfrm flipH="1" flipV="1">
              <a:off x="5711040" y="3938760"/>
              <a:ext cx="499320" cy="1800720"/>
            </a:xfrm>
            <a:prstGeom prst="line">
              <a:avLst/>
            </a:prstGeom>
            <a:ln w="0">
              <a:solidFill>
                <a:srgbClr val="8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032"/>
            <p:cNvSpPr/>
            <p:nvPr/>
          </p:nvSpPr>
          <p:spPr>
            <a:xfrm flipH="1" flipV="1">
              <a:off x="5767560" y="3926880"/>
              <a:ext cx="548640" cy="1863360"/>
            </a:xfrm>
            <a:prstGeom prst="line">
              <a:avLst/>
            </a:prstGeom>
            <a:ln w="0">
              <a:solidFill>
                <a:srgbClr val="8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WordArt 1033"/>
            <p:cNvSpPr txBox="1"/>
            <p:nvPr/>
          </p:nvSpPr>
          <p:spPr>
            <a:xfrm>
              <a:off x="6225840" y="3900600"/>
              <a:ext cx="1100880" cy="12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NewsGoth BT"/>
                </a:rPr>
                <a:t>Radiological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NewsGoth BT"/>
                <a:ea typeface="NewsGoth B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NewsGoth BT"/>
                </a:rPr>
                <a:t>Emergency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NewsGoth BT"/>
                <a:ea typeface="NewsGoth B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NewsGoth BT"/>
                </a:rPr>
                <a:t>Response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NewsGoth BT"/>
                <a:ea typeface="NewsGoth B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NewsGoth BT"/>
                </a:rPr>
                <a:t>Plan</a:t>
              </a:r>
              <a:endPara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NewsGoth BT"/>
                <a:ea typeface="NewsGoth BT"/>
              </a:endParaRPr>
            </a:p>
          </p:txBody>
        </p:sp>
        <p:sp>
          <p:nvSpPr>
            <p:cNvPr id="601" name="Freeform 1034"/>
            <p:cNvSpPr/>
            <p:nvPr/>
          </p:nvSpPr>
          <p:spPr>
            <a:xfrm>
              <a:off x="6605640" y="4953240"/>
              <a:ext cx="920520" cy="820440"/>
            </a:xfrm>
            <a:custGeom>
              <a:avLst/>
              <a:gdLst>
                <a:gd name="textAreaLeft" fmla="*/ 0 w 920520"/>
                <a:gd name="textAreaRight" fmla="*/ 920880 w 92052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178" h="181">
                  <a:moveTo>
                    <a:pt x="22" y="0"/>
                  </a:moveTo>
                  <a:lnTo>
                    <a:pt x="18" y="0"/>
                  </a:lnTo>
                  <a:lnTo>
                    <a:pt x="14" y="2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158"/>
                  </a:lnTo>
                  <a:lnTo>
                    <a:pt x="0" y="162"/>
                  </a:lnTo>
                  <a:lnTo>
                    <a:pt x="2" y="166"/>
                  </a:lnTo>
                  <a:lnTo>
                    <a:pt x="4" y="170"/>
                  </a:lnTo>
                  <a:lnTo>
                    <a:pt x="7" y="173"/>
                  </a:lnTo>
                  <a:lnTo>
                    <a:pt x="10" y="176"/>
                  </a:lnTo>
                  <a:lnTo>
                    <a:pt x="14" y="178"/>
                  </a:lnTo>
                  <a:lnTo>
                    <a:pt x="18" y="180"/>
                  </a:lnTo>
                  <a:lnTo>
                    <a:pt x="22" y="180"/>
                  </a:lnTo>
                  <a:lnTo>
                    <a:pt x="155" y="180"/>
                  </a:lnTo>
                  <a:lnTo>
                    <a:pt x="159" y="180"/>
                  </a:lnTo>
                  <a:lnTo>
                    <a:pt x="164" y="178"/>
                  </a:lnTo>
                  <a:lnTo>
                    <a:pt x="167" y="176"/>
                  </a:lnTo>
                  <a:lnTo>
                    <a:pt x="170" y="173"/>
                  </a:lnTo>
                  <a:lnTo>
                    <a:pt x="174" y="170"/>
                  </a:lnTo>
                  <a:lnTo>
                    <a:pt x="175" y="166"/>
                  </a:lnTo>
                  <a:lnTo>
                    <a:pt x="177" y="162"/>
                  </a:lnTo>
                  <a:lnTo>
                    <a:pt x="177" y="158"/>
                  </a:lnTo>
                  <a:lnTo>
                    <a:pt x="177" y="22"/>
                  </a:lnTo>
                  <a:lnTo>
                    <a:pt x="177" y="18"/>
                  </a:lnTo>
                  <a:lnTo>
                    <a:pt x="175" y="14"/>
                  </a:lnTo>
                  <a:lnTo>
                    <a:pt x="174" y="10"/>
                  </a:lnTo>
                  <a:lnTo>
                    <a:pt x="170" y="7"/>
                  </a:lnTo>
                  <a:lnTo>
                    <a:pt x="167" y="4"/>
                  </a:lnTo>
                  <a:lnTo>
                    <a:pt x="164" y="2"/>
                  </a:lnTo>
                  <a:lnTo>
                    <a:pt x="159" y="0"/>
                  </a:lnTo>
                  <a:lnTo>
                    <a:pt x="155" y="0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2" name="Group 1035"/>
            <p:cNvGrpSpPr/>
            <p:nvPr/>
          </p:nvGrpSpPr>
          <p:grpSpPr>
            <a:xfrm>
              <a:off x="6621840" y="5110560"/>
              <a:ext cx="804600" cy="524520"/>
              <a:chOff x="6621840" y="5110560"/>
              <a:chExt cx="804600" cy="524520"/>
            </a:xfrm>
          </p:grpSpPr>
          <p:sp>
            <p:nvSpPr>
              <p:cNvPr id="603" name="Freeform 1036"/>
              <p:cNvSpPr/>
              <p:nvPr/>
            </p:nvSpPr>
            <p:spPr>
              <a:xfrm>
                <a:off x="6944040" y="5381280"/>
                <a:ext cx="402840" cy="25380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78" h="56">
                    <a:moveTo>
                      <a:pt x="24" y="0"/>
                    </a:moveTo>
                    <a:lnTo>
                      <a:pt x="28" y="2"/>
                    </a:lnTo>
                    <a:lnTo>
                      <a:pt x="31" y="3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2" y="4"/>
                    </a:lnTo>
                    <a:lnTo>
                      <a:pt x="46" y="3"/>
                    </a:lnTo>
                    <a:lnTo>
                      <a:pt x="49" y="2"/>
                    </a:lnTo>
                    <a:lnTo>
                      <a:pt x="52" y="0"/>
                    </a:lnTo>
                    <a:lnTo>
                      <a:pt x="77" y="43"/>
                    </a:lnTo>
                    <a:lnTo>
                      <a:pt x="73" y="46"/>
                    </a:lnTo>
                    <a:lnTo>
                      <a:pt x="68" y="48"/>
                    </a:lnTo>
                    <a:lnTo>
                      <a:pt x="63" y="50"/>
                    </a:lnTo>
                    <a:lnTo>
                      <a:pt x="58" y="52"/>
                    </a:lnTo>
                    <a:lnTo>
                      <a:pt x="54" y="53"/>
                    </a:lnTo>
                    <a:lnTo>
                      <a:pt x="49" y="54"/>
                    </a:lnTo>
                    <a:lnTo>
                      <a:pt x="44" y="55"/>
                    </a:lnTo>
                    <a:lnTo>
                      <a:pt x="40" y="55"/>
                    </a:lnTo>
                    <a:lnTo>
                      <a:pt x="35" y="55"/>
                    </a:lnTo>
                    <a:lnTo>
                      <a:pt x="30" y="54"/>
                    </a:lnTo>
                    <a:lnTo>
                      <a:pt x="25" y="53"/>
                    </a:lnTo>
                    <a:lnTo>
                      <a:pt x="20" y="52"/>
                    </a:lnTo>
                    <a:lnTo>
                      <a:pt x="15" y="51"/>
                    </a:lnTo>
                    <a:lnTo>
                      <a:pt x="10" y="48"/>
                    </a:lnTo>
                    <a:lnTo>
                      <a:pt x="5" y="46"/>
                    </a:lnTo>
                    <a:lnTo>
                      <a:pt x="0" y="43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Freeform 1037"/>
              <p:cNvSpPr/>
              <p:nvPr/>
            </p:nvSpPr>
            <p:spPr>
              <a:xfrm>
                <a:off x="7090200" y="5110560"/>
                <a:ext cx="336240" cy="313560"/>
              </a:xfrm>
              <a:custGeom>
                <a:avLst/>
                <a:gdLst>
                  <a:gd name="textAreaLeft" fmla="*/ 0 w 336240"/>
                  <a:gd name="textAreaRight" fmla="*/ 336600 w 33624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65" h="69">
                    <a:moveTo>
                      <a:pt x="64" y="68"/>
                    </a:moveTo>
                    <a:lnTo>
                      <a:pt x="15" y="68"/>
                    </a:lnTo>
                    <a:lnTo>
                      <a:pt x="14" y="64"/>
                    </a:lnTo>
                    <a:lnTo>
                      <a:pt x="14" y="60"/>
                    </a:lnTo>
                    <a:lnTo>
                      <a:pt x="13" y="57"/>
                    </a:lnTo>
                    <a:lnTo>
                      <a:pt x="11" y="54"/>
                    </a:lnTo>
                    <a:lnTo>
                      <a:pt x="9" y="51"/>
                    </a:lnTo>
                    <a:lnTo>
                      <a:pt x="7" y="48"/>
                    </a:lnTo>
                    <a:lnTo>
                      <a:pt x="3" y="46"/>
                    </a:lnTo>
                    <a:lnTo>
                      <a:pt x="0" y="44"/>
                    </a:lnTo>
                    <a:lnTo>
                      <a:pt x="25" y="0"/>
                    </a:lnTo>
                    <a:lnTo>
                      <a:pt x="30" y="3"/>
                    </a:lnTo>
                    <a:lnTo>
                      <a:pt x="34" y="6"/>
                    </a:lnTo>
                    <a:lnTo>
                      <a:pt x="38" y="9"/>
                    </a:lnTo>
                    <a:lnTo>
                      <a:pt x="42" y="12"/>
                    </a:lnTo>
                    <a:lnTo>
                      <a:pt x="45" y="15"/>
                    </a:lnTo>
                    <a:lnTo>
                      <a:pt x="49" y="19"/>
                    </a:lnTo>
                    <a:lnTo>
                      <a:pt x="52" y="23"/>
                    </a:lnTo>
                    <a:lnTo>
                      <a:pt x="54" y="27"/>
                    </a:lnTo>
                    <a:lnTo>
                      <a:pt x="57" y="32"/>
                    </a:lnTo>
                    <a:lnTo>
                      <a:pt x="59" y="36"/>
                    </a:lnTo>
                    <a:lnTo>
                      <a:pt x="60" y="41"/>
                    </a:lnTo>
                    <a:lnTo>
                      <a:pt x="62" y="46"/>
                    </a:lnTo>
                    <a:lnTo>
                      <a:pt x="63" y="51"/>
                    </a:lnTo>
                    <a:lnTo>
                      <a:pt x="64" y="57"/>
                    </a:lnTo>
                    <a:lnTo>
                      <a:pt x="64" y="62"/>
                    </a:lnTo>
                    <a:lnTo>
                      <a:pt x="64" y="68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1038"/>
              <p:cNvSpPr/>
              <p:nvPr/>
            </p:nvSpPr>
            <p:spPr>
              <a:xfrm>
                <a:off x="6621840" y="5119560"/>
                <a:ext cx="330480" cy="30420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4" h="67">
                    <a:moveTo>
                      <a:pt x="39" y="0"/>
                    </a:moveTo>
                    <a:lnTo>
                      <a:pt x="37" y="1"/>
                    </a:lnTo>
                    <a:lnTo>
                      <a:pt x="33" y="3"/>
                    </a:lnTo>
                    <a:lnTo>
                      <a:pt x="29" y="6"/>
                    </a:lnTo>
                    <a:lnTo>
                      <a:pt x="25" y="9"/>
                    </a:lnTo>
                    <a:lnTo>
                      <a:pt x="22" y="13"/>
                    </a:lnTo>
                    <a:lnTo>
                      <a:pt x="18" y="16"/>
                    </a:lnTo>
                    <a:lnTo>
                      <a:pt x="15" y="20"/>
                    </a:lnTo>
                    <a:lnTo>
                      <a:pt x="13" y="24"/>
                    </a:lnTo>
                    <a:lnTo>
                      <a:pt x="10" y="28"/>
                    </a:lnTo>
                    <a:lnTo>
                      <a:pt x="8" y="33"/>
                    </a:lnTo>
                    <a:lnTo>
                      <a:pt x="6" y="37"/>
                    </a:lnTo>
                    <a:lnTo>
                      <a:pt x="4" y="41"/>
                    </a:lnTo>
                    <a:lnTo>
                      <a:pt x="3" y="46"/>
                    </a:lnTo>
                    <a:lnTo>
                      <a:pt x="2" y="51"/>
                    </a:lnTo>
                    <a:lnTo>
                      <a:pt x="1" y="56"/>
                    </a:lnTo>
                    <a:lnTo>
                      <a:pt x="0" y="61"/>
                    </a:lnTo>
                    <a:lnTo>
                      <a:pt x="0" y="66"/>
                    </a:lnTo>
                    <a:lnTo>
                      <a:pt x="49" y="66"/>
                    </a:lnTo>
                    <a:lnTo>
                      <a:pt x="50" y="63"/>
                    </a:lnTo>
                    <a:lnTo>
                      <a:pt x="51" y="59"/>
                    </a:lnTo>
                    <a:lnTo>
                      <a:pt x="52" y="56"/>
                    </a:lnTo>
                    <a:lnTo>
                      <a:pt x="53" y="53"/>
                    </a:lnTo>
                    <a:lnTo>
                      <a:pt x="55" y="50"/>
                    </a:lnTo>
                    <a:lnTo>
                      <a:pt x="57" y="47"/>
                    </a:lnTo>
                    <a:lnTo>
                      <a:pt x="60" y="45"/>
                    </a:lnTo>
                    <a:lnTo>
                      <a:pt x="63" y="43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1039"/>
              <p:cNvSpPr/>
              <p:nvPr/>
            </p:nvSpPr>
            <p:spPr>
              <a:xfrm>
                <a:off x="6998040" y="5284080"/>
                <a:ext cx="150480" cy="1440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44000"/>
                  <a:gd name="textAreaBottom" fmla="*/ 144360 h 144000"/>
                </a:gdLst>
                <a:ahLst/>
                <a:rect l="textAreaLeft" t="textAreaTop" r="textAreaRight" b="textAreaBottom"/>
                <a:pathLst>
                  <a:path w="29" h="32">
                    <a:moveTo>
                      <a:pt x="14" y="0"/>
                    </a:moveTo>
                    <a:lnTo>
                      <a:pt x="11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3" y="24"/>
                    </a:lnTo>
                    <a:lnTo>
                      <a:pt x="4" y="26"/>
                    </a:lnTo>
                    <a:lnTo>
                      <a:pt x="6" y="28"/>
                    </a:lnTo>
                    <a:lnTo>
                      <a:pt x="8" y="30"/>
                    </a:lnTo>
                    <a:lnTo>
                      <a:pt x="11" y="31"/>
                    </a:lnTo>
                    <a:lnTo>
                      <a:pt x="14" y="31"/>
                    </a:lnTo>
                    <a:lnTo>
                      <a:pt x="17" y="31"/>
                    </a:lnTo>
                    <a:lnTo>
                      <a:pt x="19" y="30"/>
                    </a:lnTo>
                    <a:lnTo>
                      <a:pt x="22" y="29"/>
                    </a:lnTo>
                    <a:lnTo>
                      <a:pt x="24" y="26"/>
                    </a:lnTo>
                    <a:lnTo>
                      <a:pt x="25" y="24"/>
                    </a:lnTo>
                    <a:lnTo>
                      <a:pt x="27" y="22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8" y="12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4" y="4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" name=""/>
          <p:cNvSpPr txBox="1"/>
          <p:nvPr/>
        </p:nvSpPr>
        <p:spPr>
          <a:xfrm>
            <a:off x="214200" y="1213920"/>
            <a:ext cx="8593200" cy="386100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1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Si la evaluación de la seguridad indica que existen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probabilidades razonables de que se produzca una emergencia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que afecte a los trabajadores o a los miembros del publico, el titular registrado o el titular de la licencia preparará un </a:t>
            </a:r>
            <a:r>
              <a:rPr b="1" lang="es-ES" sz="2600" spc="-1" strike="noStrike">
                <a:solidFill>
                  <a:srgbClr val="333399"/>
                </a:solidFill>
                <a:latin typeface="Arial"/>
              </a:rPr>
              <a:t>plan de emergencia </a:t>
            </a:r>
            <a:r>
              <a:rPr b="0" lang="es-ES" sz="2400" spc="-1" strike="noStrike">
                <a:solidFill>
                  <a:srgbClr val="333399"/>
                </a:solidFill>
                <a:latin typeface="Arial"/>
              </a:rPr>
              <a:t>para la protección de las personas y el medio ambiente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42560" y="31320"/>
            <a:ext cx="79218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5 Marcador de número de diapositiva"/>
          <p:cNvSpPr/>
          <p:nvPr/>
        </p:nvSpPr>
        <p:spPr>
          <a:xfrm>
            <a:off x="7843680" y="6475320"/>
            <a:ext cx="65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B73D-E60A-403D-B1AC-2F397B89885A}" type="slidenum">
              <a:rPr b="0" lang="en-GB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0" name="Imagen 1" descr=""/>
          <p:cNvPicPr/>
          <p:nvPr/>
        </p:nvPicPr>
        <p:blipFill>
          <a:blip r:embed="rId1"/>
          <a:stretch/>
        </p:blipFill>
        <p:spPr>
          <a:xfrm>
            <a:off x="1859040" y="1359000"/>
            <a:ext cx="5425920" cy="4140000"/>
          </a:xfrm>
          <a:prstGeom prst="rect">
            <a:avLst/>
          </a:prstGeom>
          <a:ln w="0">
            <a:noFill/>
          </a:ln>
        </p:spPr>
      </p:pic>
      <p:sp>
        <p:nvSpPr>
          <p:cNvPr id="611" name="CuadroTexto 4"/>
          <p:cNvSpPr/>
          <p:nvPr/>
        </p:nvSpPr>
        <p:spPr>
          <a:xfrm>
            <a:off x="5003640" y="4643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Thank you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8000" y="31320"/>
            <a:ext cx="885672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290240"/>
            <a:ext cx="8137440" cy="32180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indent="0" algn="just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Analizar los requisitos de seguridad relacionados con la evaluación de seguridad, establecidos en la Parte 3 de los Requisitos generales de seguridad (GSR Parte 3).  “Protección radiológica y seguridad de las fuentes de radiación: Normas básicas internacionales de seguridad.”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5" name="Imagen 2" descr=""/>
          <p:cNvPicPr/>
          <p:nvPr/>
        </p:nvPicPr>
        <p:blipFill>
          <a:blip r:embed="rId1"/>
          <a:stretch/>
        </p:blipFill>
        <p:spPr>
          <a:xfrm>
            <a:off x="6729480" y="4005360"/>
            <a:ext cx="1639800" cy="2448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107640" y="1017360"/>
            <a:ext cx="6119640" cy="52196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333399"/>
                </a:solidFill>
                <a:uFillTx/>
                <a:latin typeface="Arial"/>
              </a:rPr>
              <a:t>Evaluación de Seguridad (Safety assessment)</a:t>
            </a:r>
            <a:r>
              <a:rPr b="1" lang="es-ES" sz="23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Evaluación de todos los aspectos de una practica que guardan relación con la protección y la seguridad; en el caso de una instalación autorizada, ello incluye la selección de un emplazamiento, el diseño y la explotación de la instalación.</a:t>
            </a: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333399"/>
                </a:solidFill>
                <a:uFillTx/>
                <a:latin typeface="Arial"/>
              </a:rPr>
              <a:t>Análisis de seguridad (safety analysis). 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Evaluación de los peligros potenciales asociados con la realización de una actividad. (El análisis es parte de la evaluación general de seguridad).</a:t>
            </a: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7" name="Picture 5" descr=""/>
          <p:cNvPicPr/>
          <p:nvPr/>
        </p:nvPicPr>
        <p:blipFill>
          <a:blip r:embed="rId1"/>
          <a:stretch/>
        </p:blipFill>
        <p:spPr>
          <a:xfrm>
            <a:off x="6472080" y="1989000"/>
            <a:ext cx="2421000" cy="3633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484000" y="31320"/>
            <a:ext cx="6480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LOSARIO DEL OI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108000" y="1366920"/>
            <a:ext cx="6138720" cy="44006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333399"/>
                </a:solidFill>
                <a:uFillTx/>
                <a:latin typeface="Arial"/>
              </a:rPr>
              <a:t>Justificación de seguridad (safety case).</a:t>
            </a: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Colección de argumentos y pruebas que demuestran la seguridad tecnológica de una instalación o actividad. </a:t>
            </a: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Incluirá normalmente las conclusiones de una evaluación de la seguridad, y una declaración de confianza en dichas conclusiones.</a:t>
            </a:r>
            <a:endParaRPr b="1" lang="en-US" sz="23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0" name="Picture 5" descr=""/>
          <p:cNvPicPr/>
          <p:nvPr/>
        </p:nvPicPr>
        <p:blipFill>
          <a:blip r:embed="rId1"/>
          <a:stretch/>
        </p:blipFill>
        <p:spPr>
          <a:xfrm>
            <a:off x="6399360" y="2133720"/>
            <a:ext cx="2420640" cy="3633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4000" y="31320"/>
            <a:ext cx="6480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LOSARIO DEL OIE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9280" y="108000"/>
            <a:ext cx="89647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SITOS PARA LA EVALUACIÓN DE SEGUR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203640" y="3559320"/>
            <a:ext cx="2736720" cy="20318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quisitos en ambas ediciones muy similares; pero …………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343080" y="1817640"/>
            <a:ext cx="2519280" cy="3735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cxnSp>
        <p:nvCxnSpPr>
          <p:cNvPr id="545" name="7 Conector curvado"/>
          <p:cNvCxnSpPr/>
          <p:nvPr/>
        </p:nvCxnSpPr>
        <p:spPr>
          <a:xfrm flipV="1">
            <a:off x="4041000" y="2445480"/>
            <a:ext cx="1290960" cy="90360"/>
          </a:xfrm>
          <a:prstGeom prst="curvedConnector4">
            <a:avLst>
              <a:gd name="adj1" fmla="val 36624"/>
              <a:gd name="adj2" fmla="val 160800"/>
            </a:avLst>
          </a:prstGeom>
          <a:ln w="50760">
            <a:solidFill>
              <a:srgbClr val="808080"/>
            </a:solidFill>
            <a:miter/>
          </a:ln>
        </p:spPr>
      </p:cxnSp>
      <p:cxnSp>
        <p:nvCxnSpPr>
          <p:cNvPr id="546" name="14 Conector curvado"/>
          <p:cNvCxnSpPr/>
          <p:nvPr/>
        </p:nvCxnSpPr>
        <p:spPr>
          <a:xfrm flipV="1">
            <a:off x="4041000" y="2807280"/>
            <a:ext cx="1290960" cy="90360"/>
          </a:xfrm>
          <a:prstGeom prst="curvedConnector4">
            <a:avLst>
              <a:gd name="adj1" fmla="val 36624"/>
              <a:gd name="adj2" fmla="val 160800"/>
            </a:avLst>
          </a:prstGeom>
          <a:ln w="50760">
            <a:solidFill>
              <a:srgbClr val="808080"/>
            </a:solidFill>
            <a:miter/>
          </a:ln>
        </p:spPr>
      </p:cxnSp>
      <p:pic>
        <p:nvPicPr>
          <p:cNvPr id="547" name="Imagen 2" descr=""/>
          <p:cNvPicPr/>
          <p:nvPr/>
        </p:nvPicPr>
        <p:blipFill>
          <a:blip r:embed="rId2"/>
          <a:stretch/>
        </p:blipFill>
        <p:spPr>
          <a:xfrm>
            <a:off x="6227640" y="1863720"/>
            <a:ext cx="2497320" cy="3727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6210360" y="1533600"/>
            <a:ext cx="2190600" cy="3165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784080" y="1447920"/>
            <a:ext cx="2249640" cy="3333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50" name="7 Flecha a la derecha con muesca"/>
          <p:cNvSpPr/>
          <p:nvPr/>
        </p:nvSpPr>
        <p:spPr>
          <a:xfrm>
            <a:off x="3733920" y="2895480"/>
            <a:ext cx="2114280" cy="895320"/>
          </a:xfrm>
          <a:custGeom>
            <a:avLst/>
            <a:gdLst>
              <a:gd name="textAreaLeft" fmla="*/ 223560 w 2114280"/>
              <a:gd name="textAreaRight" fmla="*/ 1890720 w 2114280"/>
              <a:gd name="textAreaTop" fmla="*/ 223920 h 895320"/>
              <a:gd name="textAreaBottom" fmla="*/ 671760 h 895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27" y="5400"/>
                </a:lnTo>
                <a:lnTo>
                  <a:pt x="17027" y="0"/>
                </a:lnTo>
                <a:lnTo>
                  <a:pt x="21600" y="10800"/>
                </a:lnTo>
                <a:lnTo>
                  <a:pt x="17027" y="21600"/>
                </a:lnTo>
                <a:lnTo>
                  <a:pt x="17027" y="16200"/>
                </a:lnTo>
                <a:lnTo>
                  <a:pt x="0" y="16200"/>
                </a:lnTo>
                <a:lnTo>
                  <a:pt x="2287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8 Elipse"/>
          <p:cNvSpPr/>
          <p:nvPr/>
        </p:nvSpPr>
        <p:spPr>
          <a:xfrm>
            <a:off x="6191280" y="1428840"/>
            <a:ext cx="2266920" cy="704880"/>
          </a:xfrm>
          <a:prstGeom prst="ellips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6 CuadroTexto"/>
          <p:cNvSpPr/>
          <p:nvPr/>
        </p:nvSpPr>
        <p:spPr>
          <a:xfrm>
            <a:off x="895320" y="5048280"/>
            <a:ext cx="76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s SS 115 estos requisitos fueron expuestos en el acápite de exposiciones potenciales al que prácticamente no se le prestó atenció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79280" y="108000"/>
            <a:ext cx="89647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SITOS PARA LA EVALUACIÓN DE SEGUR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Imagen 2" descr=""/>
          <p:cNvPicPr/>
          <p:nvPr/>
        </p:nvPicPr>
        <p:blipFill>
          <a:blip r:embed="rId1"/>
          <a:stretch/>
        </p:blipFill>
        <p:spPr>
          <a:xfrm>
            <a:off x="6519960" y="2565360"/>
            <a:ext cx="2230200" cy="3328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55" name=""/>
          <p:cNvSpPr txBox="1"/>
          <p:nvPr/>
        </p:nvSpPr>
        <p:spPr>
          <a:xfrm>
            <a:off x="0" y="1250640"/>
            <a:ext cx="6500880" cy="4964040"/>
          </a:xfrm>
          <a:prstGeom prst="rect">
            <a:avLst/>
          </a:prstGeom>
          <a:noFill/>
          <a:ln w="0">
            <a:noFill/>
          </a:ln>
        </p:spPr>
        <p:txBody>
          <a:bodyPr tIns="82800" bIns="82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stas nuevas Normas establecen requisitos que deben cumplirse en todas las instalaciones o al realizar cualquier actividad que de origen a riesgos radiológicos. 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el caso de determinadas instalaciones y actividades, como las instalaciones nucleares, las instalaciones de gestión de desechos radiactivos y el transporte de materiales radiactivo, también son de aplicación otros requisitos de seguridad que complementan a estas normas.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108000"/>
            <a:ext cx="896472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SITOS PARA LA EVALUACIÓN DE SEGURID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6"/>
          <p:cNvSpPr/>
          <p:nvPr/>
        </p:nvSpPr>
        <p:spPr>
          <a:xfrm>
            <a:off x="1000080" y="0"/>
            <a:ext cx="7858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VALUACIÓN DE LAS EXPOCICIONES POTENCI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826920" y="1413000"/>
            <a:ext cx="8286840" cy="40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 u="sng">
                <a:solidFill>
                  <a:srgbClr val="333399"/>
                </a:solidFill>
                <a:uFillTx/>
                <a:latin typeface="Arial"/>
              </a:rPr>
              <a:t>Exposiciones Potenciales - Definició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99"/>
                </a:solidFill>
                <a:latin typeface="Arial"/>
              </a:rPr>
              <a:t>«Exposición prospectiva que no se prevé que se produzca con certeza pero que puede ser resultado de un incidente operacional previsto, un accidente ocurrido en una fuente o deberse a un suceso o una serie de sucesos de carácter probabilista, por ejemplo fallos de equipo y errores de operación.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s-ES" sz="2200" spc="-1" strike="noStrike">
                <a:solidFill>
                  <a:srgbClr val="333399"/>
                </a:solidFill>
                <a:latin typeface="Arial"/>
              </a:rPr>
              <a:t>Normas Básicas de Seguridad del OIEA (GSR Parte 3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6"/>
          <p:cNvSpPr/>
          <p:nvPr/>
        </p:nvSpPr>
        <p:spPr>
          <a:xfrm>
            <a:off x="1000080" y="0"/>
            <a:ext cx="7858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VALUACIÓN DE LAS EXPOCICIONES POTENCI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714240" y="2220840"/>
            <a:ext cx="80010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la naturaleza y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magnitud de las exposiciones potenciales y la probabilidad de su ocurrencia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;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714240" y="2989440"/>
            <a:ext cx="7696440" cy="22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los modos en que las estructuras, sistemas, componentes y procedimientos pudieran fallar o conducir a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exposiciones potenciales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, y las consecuencias de tales fallos; 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posibilidad de errores humanos  </a:t>
            </a:r>
            <a:r>
              <a:rPr b="0" lang="es-ES" sz="2300" spc="-1" strike="noStrike">
                <a:solidFill>
                  <a:srgbClr val="333399"/>
                </a:solidFill>
                <a:latin typeface="Arial"/>
              </a:rPr>
              <a:t>que conduzcan a exposiciones no planificadas de cualquier persona.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500040" y="1643040"/>
            <a:ext cx="84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99"/>
                </a:solidFill>
                <a:latin typeface="Arial"/>
              </a:rPr>
              <a:t>El solicitante proporcionará información en relación 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7:36:05Z</dcterms:created>
  <dc:creator>TSA1</dc:creator>
  <dc:description/>
  <dc:language>en-US</dc:language>
  <cp:lastModifiedBy>DRÁBOVÁ, Veronika</cp:lastModifiedBy>
  <cp:lastPrinted>2012-03-07T09:50:48Z</cp:lastPrinted>
  <dcterms:modified xsi:type="dcterms:W3CDTF">2020-01-22T12:35:43Z</dcterms:modified>
  <cp:revision>1049</cp:revision>
  <dc:subject/>
  <dc:title>L04 Evaluacion de Seguridad GSR Parte 3</dc:title>
</cp:coreProperties>
</file>